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start.wav" ContentType="audio/x-wav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16.wmf" ContentType="image/x-wmf"/>
  <Override PartName="/ppt/media/image7.png" ContentType="image/png"/>
  <Override PartName="/ppt/media/image37.png" ContentType="image/png"/>
  <Override PartName="/ppt/media/image13.png" ContentType="image/png"/>
  <Override PartName="/ppt/media/image33.wmf" ContentType="image/x-wmf"/>
  <Override PartName="/ppt/media/image8.png" ContentType="image/png"/>
  <Override PartName="/ppt/media/image39.jpeg" ContentType="image/jpeg"/>
  <Override PartName="/ppt/media/image9.png" ContentType="image/png"/>
  <Override PartName="/ppt/media/image30.png" ContentType="image/png"/>
  <Override PartName="/ppt/media/image28.png" ContentType="image/png"/>
  <Override PartName="/ppt/media/image38.gif" ContentType="image/gif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40.gif" ContentType="image/gi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5B5B4-FCFC-4F2B-919A-8391D18433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70910-908C-4650-BC5F-BD5C3A9E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C06B6C-C677-4DC6-8CFC-24D4333F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24E5FD-9F89-4018-8A38-D4A87B68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AD63B1-455F-4AD8-A963-02F9EFE9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AC1ACD-DA66-44DA-BAED-010E4DDC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2F679E-A037-4579-B56F-D1EEAB1F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D38554-13B1-4E89-8180-F04C7D9A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FF4869-A457-46B3-961B-29F23934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265DCC-74AB-4DC6-8F93-8647FAF3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5E53BB-4F22-436E-93BC-E30C87B1A7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7FFE2-5764-4738-813B-456B039209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0820E-DA2F-4FD6-B17D-48C1CCB3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DEC55-3276-4577-AE33-DCBCA7803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5FB9B-B12A-4B22-A96B-43CD908D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28593-9D75-43AF-A427-C478348B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89C32-9BC4-446F-B964-4FBBCE36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72BB7-D570-4498-814B-8E7975678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F8957-D851-4A12-AECF-5CD45047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789B5-ED7A-4BF8-83AD-25D5E06B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4500D-92FB-4670-AD4C-F412FD4F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016F7-CFF8-4773-AB19-8519711A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68FB5-BB48-48A9-A3D8-2D497738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FE29-E769-4257-8165-D594806E62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680E9-98EA-4A01-B4AD-0CFF180BE8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B804F5-D729-4B10-94BF-C155727D0A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D7BAAF-563F-4C78-9B3F-868435B7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CDC13B-A5FE-4090-BACF-9D507149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C1EC29-5C3C-4A29-B2A1-8CDF0115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1929F6-94DB-491B-A293-6A5EE3BB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A31BAC-E819-40AC-88D9-93452F22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FAE4D5-C9B1-4562-A918-58402B6D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CB02C1-68C2-4E30-BF30-882CE2BB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822651-CEF7-4279-A832-A7B48776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40F05-59F7-4997-8E35-FF33236B77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407421-4A6F-4BD8-8E89-D9E10C1F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D70D9B-0C8A-4B99-8942-17FEFCF6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04AB6E-048A-4CCD-A078-A813FFBDC8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FFAAA-A14D-447B-9937-84C8E0A21B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A79C94-0CC8-4A94-8AEC-7679D979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F3C0B5-E889-4627-98FD-532FB3C9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B89A6-6109-4C77-B6D6-FABE44DE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C326E0-400F-4B5C-BD4A-20E30BCD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34D3A-C475-4D61-8E62-6F9A4C35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755BD-86E1-4E0D-BB13-06283A3A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101BB-09A3-4D1A-AB41-2C38C21B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D5C932-6E16-45D2-BF4E-94D1D947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D8B2F8-5B7B-4FE2-99EE-4CF52638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45C35A-DFA4-4464-95BB-C94643C5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7FAED-7E43-4B1D-8012-923C13BB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057BA7-2E49-400E-89F2-06B3AED13E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AAC20-CB3C-4CE2-AF47-67B9817098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58E74-6AF4-436F-8B92-69793C4F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0C500-0792-4C2C-885B-8A9BE07C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DAFA4-CEB6-4900-BE03-AEFBCD02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E77D8-FA22-4456-99D1-B0AB709F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808810-5891-497C-82EA-12DDEE95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0B250-1A67-4F06-8713-43F0A690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0B9CB-4B3F-4187-A5D9-44D5578B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AD99F-213C-4542-AD6B-7F6BDDDC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0B9D7-8934-4E2F-8CFD-6EBAEFF8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22FCD-5A99-4673-9140-E9128A73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7C98A-8230-4C78-82AD-7BCA841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70E9A-9993-42E4-8207-C7037BDD4F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9907FA-EA49-4E40-9945-5FF7868646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3A507E-5AEA-40FA-9E06-EA5D9475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3C8D80-285E-43A9-9C9F-F5EC16AD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52737-EA80-4099-8273-0A55E92A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91DC52-8EAF-498A-BE69-BF3EFBBC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FF18F9-E784-44BC-BEC3-6B5E0F389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46AA38-286B-45A9-A478-E914F911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2BC6B9-CF8B-4AB4-ABD7-E5EA7984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3D97D2-B61D-4AB4-8536-8461A547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C226368-C3CE-4A7C-BA92-59240180D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F48C31-9822-4666-A200-2AF50FB5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878127-ADBB-40BE-B2A4-4F367A0F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DF6518-2087-4350-BDC2-BF617C3185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3421EC-F623-4196-98F6-F8D108E563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A029BC-11D9-4C8D-B07B-4CD90774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AE513E-15D6-4250-8072-EC7EC756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9A8E88-1A7D-4707-929E-CE046377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350604-87EA-47EA-A16F-A48E361E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0ED3D1-9DAB-4B00-B234-4EB8F8BE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48CC25-48E7-4D30-B08F-5356A2657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598B38-ACD6-4AFB-986B-6A91427A7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CC8863-BE7A-4041-814C-4B69DB26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154CC1-0EA9-4756-87DC-5211B0B7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D84D24-4155-4B4B-88BC-FE230CEA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536526-9577-4E02-8792-4ECF43D2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3E29D-DC39-4D71-9A98-0616EB86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FB7E3B-397F-4CD5-91E2-349CA770F8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EE141-B663-4F4B-AEED-7815683CA8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C8DF4-F6B2-4DA2-AB57-96A81876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DF65D-AC22-4142-936C-73C62B31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ECDF4-FFE0-4E61-A3D1-7153D3CB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87CA2-BEEF-4205-B8C1-2E118A16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AB46D3-C696-4D98-BC1A-F413E086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3925E6-A9F3-465E-9005-B62F749D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1A763-8F1D-4487-B4B4-14AE9C098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7B0F2D-B402-449D-8E0A-488EAC5F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4EC3F-3C58-4AE5-B9AF-94D9DC7E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9204A-F43A-49A8-BCF8-A7C551E4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49342-A379-4146-824B-24A12B9F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C7CB7-715D-4F6F-99FA-5F4CD88336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96B884-4AA5-4CF1-B6BB-81BB86ABF0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8303C5-638F-4BA1-804F-1E24D98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C94211-BAF9-4D80-9D6F-267913B6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C08651-B815-4CD2-AEB8-D0E83A29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1CBB293-A6BC-4B58-A10A-664A0775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498A90-B987-42EB-BECE-A9656B86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9CD418-1799-4866-B293-73F0F356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01BA0-12AB-4DC9-A49F-51F4EBDA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171583-FBD0-4F96-80D4-69968B58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983F76-15BA-4F3B-98D6-DD13ECDCE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0F6317-F073-4F37-A1AB-9CFBC4A1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58E942-634B-4822-AAAC-C673C330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80E3B3-4C72-4A58-B5EE-D213CFE9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B5917F-5F97-4432-80BB-3149CB8326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E6E08A-8569-44E7-A98E-9CED9A5B4F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523754-60A9-44C0-A914-936BCB3A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7069F0-AF7F-4A70-9D70-65B50CBF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235F3E-3605-46EB-BDB6-0A475D80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06245EB-3238-4926-9AE1-066A1C868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C3F3BB-BB86-42D1-8B24-1EDC2528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05CC4B-03EA-4907-BD8C-C46C325D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219184-DF38-4AC7-817A-2887C1A7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CD8001-D3C6-45C3-97A6-F73E773B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E1A355-6108-4939-B16F-0C18F394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17D994-63EB-4521-9983-AC4EB759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8BF92C-61CA-4069-8080-9F9EDEF3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35C29A-5CC1-4624-8575-8509CF1537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0EE462-D7C6-491A-B51F-7B11C2A78F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BDB6C-A9F0-47B3-A836-E2D59771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0A994-FB02-4D94-BD43-A135FDF5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18472-0B28-4858-BA83-E9281EAD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C5BC8-A362-47C8-B248-7CD67D24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0655C-1AA7-4CDC-81E6-C88F4DB7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68212-F0AA-4532-8007-BF27724D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637CD8-5B73-479C-A93C-53B98975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E90F7D-1AE6-4824-BD5F-630D7618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E8F24-F6D9-4B9B-94FE-B410B041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70EFAB-49EE-4AB0-BE91-337EB86D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45983-4A0C-4D24-A956-E5396A90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E5E2CC-2CCF-4516-B593-92AD76A3A5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7FF6BB-9091-4B36-9359-2A68258AB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3FC39-5B88-4A8A-B334-C73B03F8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237F6B-754D-4BA7-8AAD-53E615AB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158732-53D9-4394-B81B-94A3EAC4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89673A-BF63-4634-BB59-2C6493D5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ECE5E1-97FE-40E2-BBFA-CFC0CF383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9F975EB-A4F9-4066-8FBF-4232E19E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1D2465-303E-494D-B801-303610D5F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5E33E6-2BE9-43A2-939E-D30B3988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4932563-9544-40C2-9E3B-234F3999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0B9646-699E-4F0D-8C91-C64E1CA2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DE8F52-AF42-42A0-996E-BCA6C1D7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BBD66-8C86-451B-90AB-F7619D658A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96A1CDE-0FAF-4C21-873B-0A933998E0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383956D-F381-4AA2-B133-9A82FBF8B3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D72A84-AECF-4758-973E-4A189319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CC21FC-58A1-452E-89CD-1D8145D9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B010C7-E9E3-4AC1-AFA5-9B8D48E0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9650D2-CD03-4889-8592-14FE9E3E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B816C4-AB5B-415E-8BA2-F8EF9F83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4EC96A6-E4DB-4681-9C9A-C801BDE1F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2E2D74-0AE2-4718-BC56-1DCD74A9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D710B18-950C-49D1-9FD0-D5B6AD95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D189C2-11E7-4799-94A2-EA3AB261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2CE1155-1E1E-4553-9B23-9EA6D91E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BDE169-4E1C-41DC-8C09-30D99F90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095EB7-0B00-4466-9A97-14F6D90C97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3C61D-1E71-43CB-B01A-460B82680F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F5649-7E10-468C-BDED-D32820B8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A6E93B-6BCA-4C24-B0C4-464EEC75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E19CF-6FCB-4F13-A292-28D37A65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2E4297-1333-4F25-9092-35F5B1EF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FDEC88-AFD7-44BC-B66C-EBA7222E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D91F93-B583-497A-B68C-0A726A95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883F5D-FA28-4837-A3BB-75CA7AF5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C24DF-1753-457D-ABEB-6849CFBE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FB2CB-A6BC-4015-B590-5534B9BC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4A8D0-CA8E-42D8-92EC-A6877856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53843-080C-4925-8EBF-1792E18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10B4DF-3E57-4D44-A11F-4ACA574B58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2ED2B4-47F2-4D84-BAB7-26FAC20372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2917DA-4A8C-4E50-BE54-95729344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2BADB20-BD91-43FF-8D32-526390EC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3378D6-7B7C-465E-8E9C-B95A81EA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BA824A-7BA4-464E-B491-094AFF78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14E199-7E9F-4453-8F91-1C36B6FA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CE64FF9-3424-4082-97B0-96E39661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9A272E-0A94-468C-9A82-F22D53E1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54F5C6-4B95-4C51-A841-893305B57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DCAA2C1-DB33-4694-8A23-8EB66FDE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9D21F2-911A-443A-9232-037481F2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8A89BA-573B-41FB-884A-6067E992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FDD56C-CFFC-413E-90B6-E72D059BC5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0DF4593-3EB9-420E-A5AE-A0B0B3BE2E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8D3CCCC-07A7-4FD5-83A7-77D62BA9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580DA41-1CE2-4660-A64E-C34001A4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F6AFE0-4525-4F13-B03F-BDA3D587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4F1F8BF-C56B-4225-9F1F-40C55C88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AE120E1-7963-42A2-BC1B-DAE98CCF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E0A3513-710D-4FCC-8C11-0AE15FC3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DDCF7F9-BA93-42C4-A0C7-6D56FA15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296447B-E44F-4F55-87B0-9DC31F84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5796985-2357-469A-A9E4-BCE88041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1957B26-8874-4B4C-B167-9F05C1C2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AF05D0-EE97-49F5-8F76-57C3E816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2E5F48B-A9F7-4525-B015-DC9BBE6081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AB5A63-64BE-4528-BDBC-2BA285397B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538A4C-9175-494D-B391-65BA76DB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DF184-B586-443B-81C2-4D3F1493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0F79D-651A-494C-BB86-00A4F1BB5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A4B445-C49E-4A0C-9EE2-C9B05E61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5C45F-22E2-439B-BCF7-96DB2D87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984613-4F3B-4BFC-97DB-B734F667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B68E9D-9323-495E-A7EC-BC51053C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B6454-8A8A-445F-8462-24B3DD0A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04F55-E0B1-492C-A16E-C4BF4D65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BCE5A-C725-49AB-A04D-EB406215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8E251-805E-40FE-B755-26E3CB68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F859-B885-412E-860A-64DCE8AD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D25274-C11D-4417-B8F9-04C17A13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B07ED4-43CF-432F-B479-2282DDBF3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3A509-D00F-46F7-9E23-F56DDBA5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CD72C9-EB72-40B2-AD3D-E8552B45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2188D2-0A96-4C6A-B730-F0D365C0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8201D1-3A07-4819-BBF5-E80B5663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A39DC5-04B3-4845-8C67-77EEED0A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6E821C-F8EC-4599-923B-937AC420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302FCE-B8B4-4F22-80EC-5FB1D10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873785-A001-4D8D-9672-C39DB4EF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EE194E-D384-4581-84BA-59965C00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1023F3-1B5B-48C0-8562-C88C54E8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A1D49-1114-4A2B-B759-FEA11F3C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115B6B-CD00-477F-B6C1-97B7DEF85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2FBEB7-ED24-4A6E-A072-729B37C8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71EE0E-95D4-4AD7-A970-E23764D5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48CB37-8C14-4C65-B734-8BE94AF3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558151-FE5F-4BDF-8814-9F8E938A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B2FF8-90D4-40AA-9E72-416D3538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377E3-24FC-4C11-8393-305D5CCE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12040D-4A9B-4191-AF23-40AADFF6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14762D-D44B-4E11-92B7-0E04A21B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4D8335-708D-4922-B1B7-2E521177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ACEE2D-43C5-4F6F-BC15-E47CE84F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49AB1F-E55B-41A6-8122-EA8604EA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98C5E7-4613-45C8-AAEA-EF53AC6C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A3AA30-760F-4F9A-8E94-4160CC9A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69765-3867-4B7D-BFEF-9CEC0166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3A44E3-050A-4A75-AC1F-F5C3C0A7F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A817A2-3762-4557-BA78-795F109B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05A900-06B8-4640-8BEF-5CBE5724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C263D-F390-42D9-9609-B3D56661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CF12EC-7974-4085-9041-7CA6F150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640AB9-3AEA-4544-A83E-F127F6C5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F59938-C83A-4ACE-9083-C1B03F42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671DAE-82EB-407D-8897-A952217E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972B1-A279-467F-BDB1-30EABEF2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6D2EFB-D0D4-421B-93F2-13263271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E51F1-B678-407C-B3F6-01E54C04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98C39E-AD46-4A4F-A432-5BD4EEC5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5AF203-A6D7-4652-A8A0-94DCC352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4A7F67-DEC3-4FD1-A5EE-D22E5BFE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4F2651-59B6-4597-845E-FDCA5C8E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A977D6-8190-41F3-A86E-6EFA917A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3C32A2-F93B-4025-B2F9-8D640FB4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C88186-548D-4B8F-ACA5-E13607FA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5F3FCA-29B4-44AB-8608-EA073CB6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03B2CA-5E95-45FC-8929-F7679B8C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0AF4A3-21CF-4DBC-B28A-AE47C5A6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6551FA-FF2E-4475-A283-6F6242E3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EB3DB2-93A8-40D7-B08D-37D5920F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20F00D-4950-4138-8B6A-95BB2EE3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9BF760-EBDF-4FAD-BBB8-BE65C82C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1A38BE-0A87-46E3-859F-DEE512A7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9A3967-A02C-401F-989A-72839DE3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586D98-91B5-4284-B5DF-8FA2186B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83C0B6-FBD7-48ED-82C9-0C677541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D8AFF3-A977-4374-BBD3-E81A7136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A208C1-5214-4CD2-90C2-DFD5570D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0DF91F-9681-47DA-80EF-E2BC6565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A4EC34-7CA2-425F-9C04-C32B75B6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F3BEAF-76D0-43AA-B536-2203D6D7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963F91-0C24-49AE-A257-729E2B96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B911D7-2612-4086-8DFA-C041619E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E4FB88-AFB7-4BE1-828A-7A3A39C6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C7A100-ACD5-4FAF-967D-6BAB0B75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93E294-E55C-43BE-85B5-C8E18E9A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E9DA1E-84FB-4B7E-B08D-7E61002A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A9449C-A451-460D-B9F5-5C5EF476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AADB34-E12A-42A4-8D46-85675410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2F5CE5-547F-4B9A-B744-C0525A9A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22D622-D2E5-4481-AFE7-B041C202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3D332B-FBF8-46DC-9EE9-1E2C2B27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34FDE2-FB14-4119-A974-67F2B130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F02FAC-EE12-47B6-9993-27691E94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CFB256-8E28-4DC4-B894-872B06A9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CD826F-6D3E-444C-9A10-86446E6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2876F-8E76-47BF-94BE-FE9A68BF17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300E686-CB98-461E-821D-5C83B314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40826B-7BC3-4650-B0DC-DA4670E7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05680-7647-4D83-8B98-268F6DBC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E8BCE8-A8FF-4C40-9A00-ACC3BB47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9C7055-25C1-4086-A250-7D08B4DF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57ECA6-C7AF-499C-A348-71D96FB2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50D76A-C132-44E6-9B2A-7EF93028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DB41B0-36CE-43A1-86F0-AB83D408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F8DA81-7EE5-4E21-BB1D-ACBC24EB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08A37D-0729-4C44-BA16-9F7B08AF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A3FF-3D55-4195-829A-4B5CB34D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31404E-3630-4132-8D9D-F1A11CB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3775D7-6064-40E8-A4A8-D0B5B0F2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BD2C21-BF31-4993-894C-67E713B8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18703A-D2A0-4CBA-BBAA-7E2723404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BFDEBF-2882-42BC-8BE3-A507A5DA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CA0BB6-B5E0-4723-A41F-07E864B8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E023E9-57A0-4DEC-99D8-2C329B3D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554664-A99E-4F94-BF41-C8253779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36B65F-7538-43D1-BD1D-01C1F9AA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212E20-6887-4501-975C-5144EA20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8B4F9-6980-4114-AD17-BCDAB108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EEB806-F1D7-4FDA-89FB-2CF73439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12CC4D-6A3E-4BE0-9998-ED46D8F8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57B0B1-A9AC-4C4C-87F1-CB1B745C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70A173-52C7-467A-8C39-1CC6F052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E8716F-53B7-46BA-AA11-F7D63EFE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487514-23C6-4A8E-9681-EE4643CD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E6A875-FE86-4734-894D-1284708C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B71D27-445D-437C-BAF3-A4BC10B4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24721F8-E4B8-48B7-93C5-D0AE76B0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87B9C03-DF4E-47AE-93F4-2759B7BC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726DC-447C-443B-BFFA-ADD992C3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FAE7-9C2E-46A2-9E71-38F98C55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CB1A59-A5EC-4E4B-AFE8-0C5A6F36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065FE9-2917-429F-A2BA-257E05B8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908141-4E02-4B73-94B2-A7014E9D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59FC40-A27F-43AF-8A69-FE2DE14F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5C1346-4454-4014-BB55-7D79CB15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392040-FEAD-4AC4-B5C3-12A439C6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475BF9-4197-45DB-9C99-2745B9C7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9AEB6D-C4AA-4472-BCC0-8A076455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BF86D4-3B18-479A-B095-E09143830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694D54-0247-427B-BA05-CA6F05251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12E7-5AD2-4060-87A1-9585F990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EC96AD-4AA6-4A4E-9DD5-48E6EA31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5630D50-1E7C-4FD4-B020-A71D9E45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9622F5-AD39-4946-B408-D3682911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B46750-4183-4232-BBA0-049168A8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324EE9-C4E2-4907-B590-F3E7FB10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FC70DE-8C62-4FAF-A256-C9CDF7D0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43EDC0-F643-4B10-BB92-D9719A29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D09A3F-34F9-449A-A677-A4DD449F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AD1F66-8AC0-45BA-AD43-12857FFCD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322B5AB-8324-4A2C-A3C8-11D08A163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04ECE-B1A0-4F01-9802-D930FF3A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DF62BE-1A73-441D-885A-6731BDD2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DE6307-8050-4815-A331-C51C1CDF6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4F7A17-B885-4C1D-8296-0A796E04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B3FBE8-8CB7-4A0A-9F15-D41604C68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B1BB3B-5136-474B-B95F-0C1DB4A1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F00AE1-9F48-442D-80D5-2DAF9D7E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41EF10-A89A-4529-800E-A10488D4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272843-4E9A-437C-B740-24293E2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1CF0024-1CCA-45A7-B403-F6091B27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24357A-C590-4FF2-B9FE-0838324C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ED0B4-57E8-4712-A94C-BCE0026E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B76877-2D8A-46B4-9A24-8BDA3AC6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586E1D-23B0-40E9-AF40-0763F3634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C1928D-0567-41F3-9072-ABA061DA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E6CD8-8940-44DD-B680-05A6D9C1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34833-DEBB-405C-9C0A-09CBF86B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54E5-D1B6-43D3-8EE5-8A72C29B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8D6B6-7B54-4AAB-9B90-C8811E5D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EE31B-B1E1-4A98-AB79-CB4675377C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FBD43B-7330-4E77-97F1-BF8E39E2B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B995-7133-4D59-BFEA-85FB37DD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DC87A9-3DA9-4164-B2FE-DAB7FBF8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C3E8FA-CA58-48B5-A931-077CF264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69195D-314D-49CB-B375-271EF927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BFEE95-C670-4474-8450-91249B34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0E0AB-D30A-4404-A18B-2F91687E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522B35-26B3-491A-BD70-C64C1458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F0100A-4A83-4E10-B72C-EBA771D4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BAC808-D199-4515-ACA6-E7CFB56A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0F62C3-6A6C-4493-9376-A8CBD7368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F5BEA-D78B-42E4-A133-01A1B410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277B-3D3F-49C4-A5B8-520EEC14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736F1-D3D6-45D4-AF4B-2B6E08F48D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672178-D1B7-4A09-8B2F-BD900C2389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9AA137-C888-48F2-8E9C-A9457E38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A71197-659A-4564-BD25-82E589E3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1EEE5E-DAF7-4F69-B8A9-5C46C0D5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607320-7EBC-4D1F-93E0-DC9D5DC4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EADB84-B39B-4659-9D02-4063BF7D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456A08-1494-4169-BADB-FCD4345A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01BD90-AB7D-4E59-A8FF-316C9730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E8BB4E-4C89-4E2F-A3A7-6FA46906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2F08F-1457-4B58-A471-0FA4C330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4DE79B-1AE2-47D2-874B-B63E46AF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7991EA-22A2-4DDA-ABB0-7B330DF6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70ECCC-E265-49F6-88C8-FD8D4A506C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30F9E-54AE-4E17-873E-BD6D4FACDE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24508-EB3A-497C-A27E-4A5E1769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DA74-4E9E-4A48-ACA2-69E06EAF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F3CAD-C843-4372-8BFE-A2D75D2F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5FFB8-A7B9-4010-BFA7-2F6C5218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B2951-1530-4CB7-8DF9-1CC6EA1F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1A7A5-DFF7-4A7B-8851-8D91A928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1F67-93F3-4E6B-AEFB-474B1202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76B9C-B786-4945-8CA0-8E8119B8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E7A4B-00C0-4C1B-98E8-BCFD0351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B5B74-1913-49EA-A239-80912627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FD323-769E-4A58-AEDB-AD08D79D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73D0B-4B53-41FF-8EA7-5BA8CCBA25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F50DE-F197-4A1B-A6F2-3F17AEAF9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C89B02-7986-48B5-B85B-3F021144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3FB87-284B-4E5E-A0D5-B34CB307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254794-65F1-4BBB-8605-58430F08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44340-A445-4B0D-82A0-C87B83A6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66B3-CB95-4D08-9185-69BB470B1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14826-7A07-4135-BD43-D7578ECE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7A57C-894B-4876-8554-A4C7F449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2FA4E-466B-43F1-B061-D252319C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16EC6-C3A0-4119-9411-878AE9F9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1EF57B-E757-485A-AB86-5B295323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9E3918-F2A8-4D5D-91B7-3F1A59C6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46993-EF55-40B1-907B-D710065836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B0E7B4-419D-4A03-BD8B-459E013B4A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70C473-292B-4032-9FAB-46D769F1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538627-8D03-41E5-BF73-050CA713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AE5B-D91A-4ECF-831C-EB72C120449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330C-3563-421E-B04B-D7D0025A16A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D0E9-2D7A-428D-93EA-8962066A470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7AF2-2F8A-4F69-B020-4A8C81F0BE5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B040-0D94-44A7-9A36-9B473AB2A41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A6C6-9F18-478F-9FDF-C88584FF5B3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44BD-5B04-4E0A-B23B-9159C5442D7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3ACA-81A5-47DB-824E-10DC3273C3E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E3C7-312A-4AA9-A142-6514710D093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3981-0999-439E-964B-8575EFA6ABD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CF87-9297-4B84-B885-66787019D31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B581-5C10-4C17-A399-690FE2F8343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0CE1-3164-465D-A058-084BBDC937A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2485-0AA2-4E69-833B-97848A88415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ABE8-860B-4330-B5AD-6A4C16B3EE8E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C57E-A451-43E2-8C3A-6408CAC10108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93C4-4AEE-48FB-96AF-6D879ABBAA27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A4FD-C779-45D3-9512-A701A08F9CCD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0D49-59F7-4539-821D-E4CBCF1D601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BFC3-174C-405B-A817-46C26A6CACD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3170-BA97-4F9A-BF85-3257B112B53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AF06-E81A-4B85-9E42-AE77FA1F8048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538C-13E6-472A-B04A-D61C6F506EB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8EB94-8CB7-4CC2-BF09-F726FD2D0F5C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9742-F0C9-4A8B-A6AC-13C78914797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C8EA-2D8D-4F3F-865A-C39BEE3A2599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B16A-7FB5-4FF4-89E3-9A25CADBD23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A079-0883-4E08-A98F-9C86140E8D4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DD86-BA98-43E0-8AF9-BF509F987623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9149-8ED2-4E28-90F1-C1A6C9175D5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47A1-3C2D-49B8-8275-6ACB6525B7E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AFF4-F6D7-4597-AC9D-1375F53259B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5B63-8E82-48F8-B115-42C79788D85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BE06-33AD-49D2-8C36-F2540EB4FA8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0577-021B-4E4E-8B6E-B1344EA8C41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C87C-219A-49C5-AE0D-5B37DB2917F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image" Target="../media/image38.gif"/><Relationship Id="rId6" Type="http://schemas.openxmlformats.org/officeDocument/2006/relationships/image" Target="../media/image38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38.gif"/><Relationship Id="rId10" Type="http://schemas.openxmlformats.org/officeDocument/2006/relationships/image" Target="../media/image38.gif"/><Relationship Id="rId11" Type="http://schemas.openxmlformats.org/officeDocument/2006/relationships/image" Target="../media/image38.gif"/><Relationship Id="rId12" Type="http://schemas.openxmlformats.org/officeDocument/2006/relationships/image" Target="../media/image38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image" Target="../media/image22.wmf"/><Relationship Id="rId8" Type="http://schemas.openxmlformats.org/officeDocument/2006/relationships/image" Target="../media/image22.wmf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2.wmf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969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969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19280" y="549360"/>
            <a:ext cx="5688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数学广角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—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数与形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1332000" y="220500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数形结合（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TextBox 3"/>
          <p:cNvSpPr/>
          <p:nvPr/>
        </p:nvSpPr>
        <p:spPr>
          <a:xfrm>
            <a:off x="826920" y="1484280"/>
            <a:ext cx="7201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. 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你能用所学知识解决下列问题吗？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4" name="TextBox 5"/>
          <p:cNvSpPr/>
          <p:nvPr/>
        </p:nvSpPr>
        <p:spPr>
          <a:xfrm>
            <a:off x="5832360" y="2421000"/>
            <a:ext cx="6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55" name="组合 27652"/>
          <p:cNvGrpSpPr/>
          <p:nvPr/>
        </p:nvGrpSpPr>
        <p:grpSpPr>
          <a:xfrm>
            <a:off x="684360" y="3789360"/>
            <a:ext cx="8175600" cy="2560680"/>
            <a:chOff x="684360" y="3789360"/>
            <a:chExt cx="8175600" cy="2560680"/>
          </a:xfrm>
        </p:grpSpPr>
        <p:pic>
          <p:nvPicPr>
            <p:cNvPr id="2056" name="图片 27653" descr="黄面向左"/>
            <p:cNvPicPr/>
            <p:nvPr/>
          </p:nvPicPr>
          <p:blipFill>
            <a:blip r:embed="rId1"/>
            <a:stretch/>
          </p:blipFill>
          <p:spPr>
            <a:xfrm>
              <a:off x="7451640" y="4365720"/>
              <a:ext cx="1408320" cy="18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7" name="AutoShape 27"/>
            <p:cNvSpPr/>
            <p:nvPr/>
          </p:nvSpPr>
          <p:spPr>
            <a:xfrm>
              <a:off x="684360" y="3789360"/>
              <a:ext cx="6624360" cy="2560680"/>
            </a:xfrm>
            <a:prstGeom prst="wedgeRoundRectCallout">
              <a:avLst>
                <a:gd name="adj1" fmla="val 55990"/>
                <a:gd name="adj2" fmla="val 585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058" name="TextBox 15"/>
          <p:cNvSpPr/>
          <p:nvPr/>
        </p:nvSpPr>
        <p:spPr>
          <a:xfrm>
            <a:off x="1042920" y="38624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我是这样想的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059" name="组合 27656"/>
          <p:cNvGrpSpPr/>
          <p:nvPr/>
        </p:nvGrpSpPr>
        <p:grpSpPr>
          <a:xfrm>
            <a:off x="1062000" y="4365720"/>
            <a:ext cx="1819440" cy="812160"/>
            <a:chOff x="1062000" y="4365720"/>
            <a:chExt cx="1819440" cy="812160"/>
          </a:xfrm>
        </p:grpSpPr>
        <p:grpSp>
          <p:nvGrpSpPr>
            <p:cNvPr id="2060" name="组合 27657"/>
            <p:cNvGrpSpPr/>
            <p:nvPr/>
          </p:nvGrpSpPr>
          <p:grpSpPr>
            <a:xfrm>
              <a:off x="1062000" y="4375440"/>
              <a:ext cx="504720" cy="802440"/>
              <a:chOff x="1062000" y="4375440"/>
              <a:chExt cx="504720" cy="802440"/>
            </a:xfrm>
          </p:grpSpPr>
          <p:sp>
            <p:nvSpPr>
              <p:cNvPr id="2061" name="文本框 27658"/>
              <p:cNvSpPr/>
              <p:nvPr/>
            </p:nvSpPr>
            <p:spPr>
              <a:xfrm>
                <a:off x="1062000" y="4375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62" name="文本框 27659"/>
              <p:cNvSpPr/>
              <p:nvPr/>
            </p:nvSpPr>
            <p:spPr>
              <a:xfrm>
                <a:off x="1062000" y="47181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63" name="直接连接符 27660"/>
              <p:cNvSpPr/>
              <p:nvPr/>
            </p:nvSpPr>
            <p:spPr>
              <a:xfrm>
                <a:off x="1080720" y="479448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64" name="矩形 27661"/>
            <p:cNvSpPr/>
            <p:nvPr/>
          </p:nvSpPr>
          <p:spPr>
            <a:xfrm>
              <a:off x="1360440" y="4526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65" name="矩形 27662"/>
            <p:cNvSpPr/>
            <p:nvPr/>
          </p:nvSpPr>
          <p:spPr>
            <a:xfrm>
              <a:off x="1976400" y="4517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66" name="组合 27663"/>
            <p:cNvGrpSpPr/>
            <p:nvPr/>
          </p:nvGrpSpPr>
          <p:grpSpPr>
            <a:xfrm>
              <a:off x="1728720" y="4365720"/>
              <a:ext cx="504720" cy="802440"/>
              <a:chOff x="1728720" y="4365720"/>
              <a:chExt cx="504720" cy="802440"/>
            </a:xfrm>
          </p:grpSpPr>
          <p:sp>
            <p:nvSpPr>
              <p:cNvPr id="2067" name="文本框 27664"/>
              <p:cNvSpPr/>
              <p:nvPr/>
            </p:nvSpPr>
            <p:spPr>
              <a:xfrm>
                <a:off x="1728720" y="4365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68" name="文本框 27665"/>
              <p:cNvSpPr/>
              <p:nvPr/>
            </p:nvSpPr>
            <p:spPr>
              <a:xfrm>
                <a:off x="1728720" y="47084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69" name="直接连接符 27666"/>
              <p:cNvSpPr/>
              <p:nvPr/>
            </p:nvSpPr>
            <p:spPr>
              <a:xfrm>
                <a:off x="1747440" y="478476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70" name="组合 27667"/>
            <p:cNvGrpSpPr/>
            <p:nvPr/>
          </p:nvGrpSpPr>
          <p:grpSpPr>
            <a:xfrm>
              <a:off x="2376360" y="4365720"/>
              <a:ext cx="505080" cy="802440"/>
              <a:chOff x="2376360" y="4365720"/>
              <a:chExt cx="505080" cy="802440"/>
            </a:xfrm>
          </p:grpSpPr>
          <p:sp>
            <p:nvSpPr>
              <p:cNvPr id="2071" name="文本框 27668"/>
              <p:cNvSpPr/>
              <p:nvPr/>
            </p:nvSpPr>
            <p:spPr>
              <a:xfrm>
                <a:off x="2376360" y="43657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2" name="文本框 27669"/>
              <p:cNvSpPr/>
              <p:nvPr/>
            </p:nvSpPr>
            <p:spPr>
              <a:xfrm>
                <a:off x="2376360" y="4708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3" name="直接连接符 27670"/>
              <p:cNvSpPr/>
              <p:nvPr/>
            </p:nvSpPr>
            <p:spPr>
              <a:xfrm>
                <a:off x="2395440" y="478476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2074" name="组合 27671"/>
          <p:cNvGrpSpPr/>
          <p:nvPr/>
        </p:nvGrpSpPr>
        <p:grpSpPr>
          <a:xfrm>
            <a:off x="4211640" y="4365720"/>
            <a:ext cx="1819440" cy="821520"/>
            <a:chOff x="4211640" y="4365720"/>
            <a:chExt cx="1819440" cy="821520"/>
          </a:xfrm>
        </p:grpSpPr>
        <p:grpSp>
          <p:nvGrpSpPr>
            <p:cNvPr id="2075" name="组合 27672"/>
            <p:cNvGrpSpPr/>
            <p:nvPr/>
          </p:nvGrpSpPr>
          <p:grpSpPr>
            <a:xfrm>
              <a:off x="4211640" y="4375080"/>
              <a:ext cx="505080" cy="802440"/>
              <a:chOff x="4211640" y="4375080"/>
              <a:chExt cx="505080" cy="802440"/>
            </a:xfrm>
          </p:grpSpPr>
          <p:sp>
            <p:nvSpPr>
              <p:cNvPr id="2076" name="文本框 27673"/>
              <p:cNvSpPr/>
              <p:nvPr/>
            </p:nvSpPr>
            <p:spPr>
              <a:xfrm>
                <a:off x="4211640" y="437508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7" name="文本框 27674"/>
              <p:cNvSpPr/>
              <p:nvPr/>
            </p:nvSpPr>
            <p:spPr>
              <a:xfrm>
                <a:off x="4211640" y="4717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9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78" name="直接连接符 27675"/>
              <p:cNvSpPr/>
              <p:nvPr/>
            </p:nvSpPr>
            <p:spPr>
              <a:xfrm>
                <a:off x="4230720" y="47941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79" name="矩形 27676"/>
            <p:cNvSpPr/>
            <p:nvPr/>
          </p:nvSpPr>
          <p:spPr>
            <a:xfrm>
              <a:off x="4510080" y="4526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80" name="矩形 27677"/>
            <p:cNvSpPr/>
            <p:nvPr/>
          </p:nvSpPr>
          <p:spPr>
            <a:xfrm>
              <a:off x="5154840" y="4516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81" name="组合 27678"/>
            <p:cNvGrpSpPr/>
            <p:nvPr/>
          </p:nvGrpSpPr>
          <p:grpSpPr>
            <a:xfrm>
              <a:off x="4783320" y="4371840"/>
              <a:ext cx="504720" cy="815400"/>
              <a:chOff x="4783320" y="4371840"/>
              <a:chExt cx="504720" cy="815400"/>
            </a:xfrm>
          </p:grpSpPr>
          <p:sp>
            <p:nvSpPr>
              <p:cNvPr id="2082" name="文本框 27679"/>
              <p:cNvSpPr/>
              <p:nvPr/>
            </p:nvSpPr>
            <p:spPr>
              <a:xfrm>
                <a:off x="4783320" y="4727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3" name="文本框 27680"/>
              <p:cNvSpPr/>
              <p:nvPr/>
            </p:nvSpPr>
            <p:spPr>
              <a:xfrm>
                <a:off x="4872240" y="4371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4" name="直接连接符 27681"/>
              <p:cNvSpPr/>
              <p:nvPr/>
            </p:nvSpPr>
            <p:spPr>
              <a:xfrm>
                <a:off x="4849920" y="4790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85" name="组合 27682"/>
            <p:cNvGrpSpPr/>
            <p:nvPr/>
          </p:nvGrpSpPr>
          <p:grpSpPr>
            <a:xfrm>
              <a:off x="5526360" y="4365720"/>
              <a:ext cx="504720" cy="815040"/>
              <a:chOff x="5526360" y="4365720"/>
              <a:chExt cx="504720" cy="815040"/>
            </a:xfrm>
          </p:grpSpPr>
          <p:sp>
            <p:nvSpPr>
              <p:cNvPr id="2086" name="文本框 27683"/>
              <p:cNvSpPr/>
              <p:nvPr/>
            </p:nvSpPr>
            <p:spPr>
              <a:xfrm>
                <a:off x="5526360" y="4721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7" name="文本框 27684"/>
              <p:cNvSpPr/>
              <p:nvPr/>
            </p:nvSpPr>
            <p:spPr>
              <a:xfrm>
                <a:off x="5533920" y="436572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88" name="直接连接符 27685"/>
              <p:cNvSpPr/>
              <p:nvPr/>
            </p:nvSpPr>
            <p:spPr>
              <a:xfrm>
                <a:off x="5592960" y="47847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2089" name="组合 27686"/>
          <p:cNvGrpSpPr/>
          <p:nvPr/>
        </p:nvGrpSpPr>
        <p:grpSpPr>
          <a:xfrm>
            <a:off x="1006560" y="5302080"/>
            <a:ext cx="1981080" cy="815040"/>
            <a:chOff x="1006560" y="5302080"/>
            <a:chExt cx="1981080" cy="815040"/>
          </a:xfrm>
        </p:grpSpPr>
        <p:grpSp>
          <p:nvGrpSpPr>
            <p:cNvPr id="2090" name="组合 27687"/>
            <p:cNvGrpSpPr/>
            <p:nvPr/>
          </p:nvGrpSpPr>
          <p:grpSpPr>
            <a:xfrm>
              <a:off x="1720800" y="5302080"/>
              <a:ext cx="504720" cy="815040"/>
              <a:chOff x="1720800" y="5302080"/>
              <a:chExt cx="504720" cy="815040"/>
            </a:xfrm>
          </p:grpSpPr>
          <p:sp>
            <p:nvSpPr>
              <p:cNvPr id="2091" name="文本框 27688"/>
              <p:cNvSpPr/>
              <p:nvPr/>
            </p:nvSpPr>
            <p:spPr>
              <a:xfrm>
                <a:off x="1720800" y="5657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92" name="文本框 27689"/>
              <p:cNvSpPr/>
              <p:nvPr/>
            </p:nvSpPr>
            <p:spPr>
              <a:xfrm>
                <a:off x="1809720" y="5302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93" name="直接连接符 27690"/>
              <p:cNvSpPr/>
              <p:nvPr/>
            </p:nvSpPr>
            <p:spPr>
              <a:xfrm>
                <a:off x="1787400" y="5720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2094" name="组合 27691"/>
            <p:cNvGrpSpPr/>
            <p:nvPr/>
          </p:nvGrpSpPr>
          <p:grpSpPr>
            <a:xfrm>
              <a:off x="1006560" y="5302080"/>
              <a:ext cx="504720" cy="815040"/>
              <a:chOff x="1006560" y="5302080"/>
              <a:chExt cx="504720" cy="815040"/>
            </a:xfrm>
          </p:grpSpPr>
          <p:sp>
            <p:nvSpPr>
              <p:cNvPr id="2095" name="文本框 27692"/>
              <p:cNvSpPr/>
              <p:nvPr/>
            </p:nvSpPr>
            <p:spPr>
              <a:xfrm>
                <a:off x="1006560" y="5657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96" name="文本框 27693"/>
              <p:cNvSpPr/>
              <p:nvPr/>
            </p:nvSpPr>
            <p:spPr>
              <a:xfrm>
                <a:off x="1014120" y="530208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97" name="直接连接符 27694"/>
              <p:cNvSpPr/>
              <p:nvPr/>
            </p:nvSpPr>
            <p:spPr>
              <a:xfrm>
                <a:off x="1073160" y="57211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98" name="矩形 27695"/>
            <p:cNvSpPr/>
            <p:nvPr/>
          </p:nvSpPr>
          <p:spPr>
            <a:xfrm>
              <a:off x="1393920" y="5453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99" name="矩形 27696"/>
            <p:cNvSpPr/>
            <p:nvPr/>
          </p:nvSpPr>
          <p:spPr>
            <a:xfrm>
              <a:off x="2111400" y="54532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100" name="组合 27697"/>
            <p:cNvGrpSpPr/>
            <p:nvPr/>
          </p:nvGrpSpPr>
          <p:grpSpPr>
            <a:xfrm>
              <a:off x="2482920" y="5302080"/>
              <a:ext cx="504720" cy="815040"/>
              <a:chOff x="2482920" y="5302080"/>
              <a:chExt cx="504720" cy="815040"/>
            </a:xfrm>
          </p:grpSpPr>
          <p:sp>
            <p:nvSpPr>
              <p:cNvPr id="2101" name="文本框 27698"/>
              <p:cNvSpPr/>
              <p:nvPr/>
            </p:nvSpPr>
            <p:spPr>
              <a:xfrm>
                <a:off x="2482920" y="5657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02" name="文本框 27699"/>
              <p:cNvSpPr/>
              <p:nvPr/>
            </p:nvSpPr>
            <p:spPr>
              <a:xfrm>
                <a:off x="2490480" y="530208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103" name="直接连接符 27700"/>
              <p:cNvSpPr/>
              <p:nvPr/>
            </p:nvSpPr>
            <p:spPr>
              <a:xfrm>
                <a:off x="2549520" y="57211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2104" name="文本框 27701"/>
          <p:cNvSpPr/>
          <p:nvPr/>
        </p:nvSpPr>
        <p:spPr>
          <a:xfrm>
            <a:off x="3308400" y="5445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……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2105" name="组合 27702"/>
          <p:cNvGrpSpPr/>
          <p:nvPr/>
        </p:nvGrpSpPr>
        <p:grpSpPr>
          <a:xfrm>
            <a:off x="1547640" y="2276640"/>
            <a:ext cx="4392720" cy="1394640"/>
            <a:chOff x="1547640" y="2276640"/>
            <a:chExt cx="4392720" cy="1394640"/>
          </a:xfrm>
        </p:grpSpPr>
        <p:grpSp>
          <p:nvGrpSpPr>
            <p:cNvPr id="2106" name="组合 27703"/>
            <p:cNvGrpSpPr/>
            <p:nvPr/>
          </p:nvGrpSpPr>
          <p:grpSpPr>
            <a:xfrm>
              <a:off x="1547640" y="2276640"/>
              <a:ext cx="3953520" cy="1073880"/>
              <a:chOff x="1547640" y="2276640"/>
              <a:chExt cx="3953520" cy="1073880"/>
            </a:xfrm>
          </p:grpSpPr>
          <p:grpSp>
            <p:nvGrpSpPr>
              <p:cNvPr id="2107" name="组合 27704"/>
              <p:cNvGrpSpPr/>
              <p:nvPr/>
            </p:nvGrpSpPr>
            <p:grpSpPr>
              <a:xfrm>
                <a:off x="1547640" y="2276640"/>
                <a:ext cx="505080" cy="1073880"/>
                <a:chOff x="1547640" y="2276640"/>
                <a:chExt cx="505080" cy="1073880"/>
              </a:xfrm>
            </p:grpSpPr>
            <p:sp>
              <p:nvSpPr>
                <p:cNvPr id="2108" name="文本框 27705"/>
                <p:cNvSpPr/>
                <p:nvPr/>
              </p:nvSpPr>
              <p:spPr>
                <a:xfrm>
                  <a:off x="1547640" y="2276640"/>
                  <a:ext cx="50508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09" name="文本框 27706"/>
                <p:cNvSpPr/>
                <p:nvPr/>
              </p:nvSpPr>
              <p:spPr>
                <a:xfrm>
                  <a:off x="1547640" y="2708640"/>
                  <a:ext cx="3603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3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0" name="直接连接符 27707"/>
                <p:cNvSpPr/>
                <p:nvPr/>
              </p:nvSpPr>
              <p:spPr>
                <a:xfrm>
                  <a:off x="1571400" y="28450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11" name="组合 27708"/>
              <p:cNvGrpSpPr/>
              <p:nvPr/>
            </p:nvGrpSpPr>
            <p:grpSpPr>
              <a:xfrm>
                <a:off x="3232080" y="2276640"/>
                <a:ext cx="790560" cy="1073520"/>
                <a:chOff x="3232080" y="2276640"/>
                <a:chExt cx="790560" cy="1073520"/>
              </a:xfrm>
            </p:grpSpPr>
            <p:sp>
              <p:nvSpPr>
                <p:cNvPr id="2112" name="文本框 27709"/>
                <p:cNvSpPr/>
                <p:nvPr/>
              </p:nvSpPr>
              <p:spPr>
                <a:xfrm>
                  <a:off x="3348000" y="2276640"/>
                  <a:ext cx="5047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3" name="文本框 27710"/>
                <p:cNvSpPr/>
                <p:nvPr/>
              </p:nvSpPr>
              <p:spPr>
                <a:xfrm>
                  <a:off x="3232080" y="2708280"/>
                  <a:ext cx="7905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7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4" name="直接连接符 27711"/>
                <p:cNvSpPr/>
                <p:nvPr/>
              </p:nvSpPr>
              <p:spPr>
                <a:xfrm>
                  <a:off x="3286080" y="2852640"/>
                  <a:ext cx="50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15" name="组合 27712"/>
              <p:cNvGrpSpPr/>
              <p:nvPr/>
            </p:nvGrpSpPr>
            <p:grpSpPr>
              <a:xfrm>
                <a:off x="2411280" y="2276640"/>
                <a:ext cx="505080" cy="1073880"/>
                <a:chOff x="2411280" y="2276640"/>
                <a:chExt cx="505080" cy="1073880"/>
              </a:xfrm>
            </p:grpSpPr>
            <p:sp>
              <p:nvSpPr>
                <p:cNvPr id="2116" name="文本框 27713"/>
                <p:cNvSpPr/>
                <p:nvPr/>
              </p:nvSpPr>
              <p:spPr>
                <a:xfrm>
                  <a:off x="2411280" y="2276640"/>
                  <a:ext cx="50508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7" name="文本框 27714"/>
                <p:cNvSpPr/>
                <p:nvPr/>
              </p:nvSpPr>
              <p:spPr>
                <a:xfrm>
                  <a:off x="2411280" y="2708640"/>
                  <a:ext cx="3603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9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18" name="直接连接符 27715"/>
                <p:cNvSpPr/>
                <p:nvPr/>
              </p:nvSpPr>
              <p:spPr>
                <a:xfrm>
                  <a:off x="2435040" y="28450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grpSp>
            <p:nvGrpSpPr>
              <p:cNvPr id="2119" name="组合 27716"/>
              <p:cNvGrpSpPr/>
              <p:nvPr/>
            </p:nvGrpSpPr>
            <p:grpSpPr>
              <a:xfrm>
                <a:off x="4168800" y="2276640"/>
                <a:ext cx="790560" cy="1073520"/>
                <a:chOff x="4168800" y="2276640"/>
                <a:chExt cx="790560" cy="1073520"/>
              </a:xfrm>
            </p:grpSpPr>
            <p:sp>
              <p:nvSpPr>
                <p:cNvPr id="2120" name="文本框 27717"/>
                <p:cNvSpPr/>
                <p:nvPr/>
              </p:nvSpPr>
              <p:spPr>
                <a:xfrm>
                  <a:off x="4275000" y="2276640"/>
                  <a:ext cx="50508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21" name="文本框 27718"/>
                <p:cNvSpPr/>
                <p:nvPr/>
              </p:nvSpPr>
              <p:spPr>
                <a:xfrm>
                  <a:off x="4168800" y="2708280"/>
                  <a:ext cx="7905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1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2122" name="直接连接符 27719"/>
                <p:cNvSpPr/>
                <p:nvPr/>
              </p:nvSpPr>
              <p:spPr>
                <a:xfrm>
                  <a:off x="4222800" y="2852640"/>
                  <a:ext cx="50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2123" name="文本框 27720"/>
              <p:cNvSpPr/>
              <p:nvPr/>
            </p:nvSpPr>
            <p:spPr>
              <a:xfrm>
                <a:off x="5091840" y="2421000"/>
                <a:ext cx="4093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…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124" name="矩形 27721"/>
            <p:cNvSpPr/>
            <p:nvPr/>
          </p:nvSpPr>
          <p:spPr>
            <a:xfrm>
              <a:off x="1908000" y="275544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5" name="矩形 27722"/>
            <p:cNvSpPr/>
            <p:nvPr/>
          </p:nvSpPr>
          <p:spPr>
            <a:xfrm>
              <a:off x="2771640" y="2481480"/>
              <a:ext cx="3603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6" name="矩形 27723"/>
            <p:cNvSpPr/>
            <p:nvPr/>
          </p:nvSpPr>
          <p:spPr>
            <a:xfrm>
              <a:off x="3706920" y="275544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7" name="矩形 27724"/>
            <p:cNvSpPr/>
            <p:nvPr/>
          </p:nvSpPr>
          <p:spPr>
            <a:xfrm>
              <a:off x="4656240" y="275400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128" name="矩形 27725"/>
            <p:cNvSpPr/>
            <p:nvPr/>
          </p:nvSpPr>
          <p:spPr>
            <a:xfrm>
              <a:off x="5364000" y="250020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129" name="矩形 21"/>
          <p:cNvSpPr/>
          <p:nvPr/>
        </p:nvSpPr>
        <p:spPr>
          <a:xfrm>
            <a:off x="4538880" y="549288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所以原式的结果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运用知识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2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2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2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2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2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TextBox 2"/>
          <p:cNvSpPr/>
          <p:nvPr/>
        </p:nvSpPr>
        <p:spPr>
          <a:xfrm>
            <a:off x="3780000" y="573408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答：小刚一共下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盘，分别和小林、小强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1593720" y="4361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3" name="TextBox 9"/>
          <p:cNvSpPr/>
          <p:nvPr/>
        </p:nvSpPr>
        <p:spPr>
          <a:xfrm>
            <a:off x="492120" y="5157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林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4" name="TextBox 10"/>
          <p:cNvSpPr/>
          <p:nvPr/>
        </p:nvSpPr>
        <p:spPr>
          <a:xfrm>
            <a:off x="1009800" y="603252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强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5" name="TextBox 11"/>
          <p:cNvSpPr/>
          <p:nvPr/>
        </p:nvSpPr>
        <p:spPr>
          <a:xfrm>
            <a:off x="2529000" y="60660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芳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6" name="TextBox 12"/>
          <p:cNvSpPr/>
          <p:nvPr/>
        </p:nvSpPr>
        <p:spPr>
          <a:xfrm>
            <a:off x="2879640" y="5157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兵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7" name="TextBox 13"/>
          <p:cNvSpPr/>
          <p:nvPr/>
        </p:nvSpPr>
        <p:spPr>
          <a:xfrm>
            <a:off x="2195640" y="414972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8" name="TextBox 14"/>
          <p:cNvSpPr/>
          <p:nvPr/>
        </p:nvSpPr>
        <p:spPr>
          <a:xfrm>
            <a:off x="366840" y="4960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4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39" name="TextBox 15"/>
          <p:cNvSpPr/>
          <p:nvPr/>
        </p:nvSpPr>
        <p:spPr>
          <a:xfrm>
            <a:off x="826920" y="62276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0" name="TextBox 16"/>
          <p:cNvSpPr/>
          <p:nvPr/>
        </p:nvSpPr>
        <p:spPr>
          <a:xfrm>
            <a:off x="3502080" y="504036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1" name="TextBox 17"/>
          <p:cNvSpPr/>
          <p:nvPr/>
        </p:nvSpPr>
        <p:spPr>
          <a:xfrm>
            <a:off x="3143160" y="628020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2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2" name="直接连接符 21"/>
          <p:cNvSpPr/>
          <p:nvPr/>
        </p:nvSpPr>
        <p:spPr>
          <a:xfrm>
            <a:off x="1135080" y="5459400"/>
            <a:ext cx="1393920" cy="7682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3" name="直接连接符 4"/>
          <p:cNvSpPr/>
          <p:nvPr/>
        </p:nvSpPr>
        <p:spPr>
          <a:xfrm>
            <a:off x="1135080" y="5388120"/>
            <a:ext cx="17445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4" name="直接连接符 24"/>
          <p:cNvSpPr/>
          <p:nvPr/>
        </p:nvSpPr>
        <p:spPr>
          <a:xfrm flipV="1">
            <a:off x="1052640" y="4773600"/>
            <a:ext cx="725400" cy="5018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5" name="直接连接符 26"/>
          <p:cNvSpPr/>
          <p:nvPr/>
        </p:nvSpPr>
        <p:spPr>
          <a:xfrm>
            <a:off x="915840" y="5618160"/>
            <a:ext cx="249480" cy="4478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6" name="直接连接符 25"/>
          <p:cNvSpPr/>
          <p:nvPr/>
        </p:nvSpPr>
        <p:spPr>
          <a:xfrm flipV="1">
            <a:off x="1414440" y="4773600"/>
            <a:ext cx="593640" cy="1292400"/>
          </a:xfrm>
          <a:prstGeom prst="line">
            <a:avLst/>
          </a:prstGeom>
          <a:ln w="38160">
            <a:solidFill>
              <a:srgbClr val="dada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7" name="直接连接符 33"/>
          <p:cNvSpPr/>
          <p:nvPr/>
        </p:nvSpPr>
        <p:spPr>
          <a:xfrm>
            <a:off x="1652760" y="6296040"/>
            <a:ext cx="758520" cy="0"/>
          </a:xfrm>
          <a:prstGeom prst="line">
            <a:avLst/>
          </a:prstGeom>
          <a:ln w="38160">
            <a:solidFill>
              <a:srgbClr val="dada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48" name="矩形 28690"/>
          <p:cNvSpPr/>
          <p:nvPr/>
        </p:nvSpPr>
        <p:spPr>
          <a:xfrm>
            <a:off x="611280" y="148428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林、小强、小芳、小兵和小刚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5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进行象棋比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赛，每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人之间都要下一盘。小林已经下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4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盘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小强下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盘，小芳下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盘，小兵下了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盘。请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：小刚一共下了几盘？分别和谁下的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149" name="图片 28691" descr="5个小孩"/>
          <p:cNvPicPr/>
          <p:nvPr/>
        </p:nvPicPr>
        <p:blipFill>
          <a:blip r:embed="rId1"/>
          <a:stretch/>
        </p:blipFill>
        <p:spPr>
          <a:xfrm>
            <a:off x="3886200" y="1700280"/>
            <a:ext cx="5257800" cy="3170160"/>
          </a:xfrm>
          <a:prstGeom prst="rect">
            <a:avLst/>
          </a:prstGeom>
          <a:ln w="0">
            <a:noFill/>
          </a:ln>
        </p:spPr>
      </p:pic>
      <p:sp>
        <p:nvSpPr>
          <p:cNvPr id="2150" name="AutoShape 27"/>
          <p:cNvSpPr/>
          <p:nvPr/>
        </p:nvSpPr>
        <p:spPr>
          <a:xfrm>
            <a:off x="1763640" y="3284640"/>
            <a:ext cx="2016360" cy="792000"/>
          </a:xfrm>
          <a:prstGeom prst="wedgeRoundRectCallout">
            <a:avLst>
              <a:gd name="adj1" fmla="val -61652"/>
              <a:gd name="adj2" fmla="val 871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用连线的方法试试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151" name="Picture 20" descr="男天使副本"/>
          <p:cNvPicPr/>
          <p:nvPr/>
        </p:nvPicPr>
        <p:blipFill>
          <a:blip r:embed="rId2"/>
          <a:stretch/>
        </p:blipFill>
        <p:spPr>
          <a:xfrm>
            <a:off x="395280" y="290844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2152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运用知识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133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133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2138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2138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2136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213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2134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2134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2139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2139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213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13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2132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2132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四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54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5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156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2157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2158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2159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2160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2161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2162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2163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2164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矩形 194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5" name="矩形 1945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矩形 194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矩形 194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8" name="矩形 194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89" name="组合 19462"/>
          <p:cNvGrpSpPr/>
          <p:nvPr/>
        </p:nvGrpSpPr>
        <p:grpSpPr>
          <a:xfrm>
            <a:off x="6302520" y="2838600"/>
            <a:ext cx="790560" cy="1073520"/>
            <a:chOff x="6302520" y="2838600"/>
            <a:chExt cx="790560" cy="1073520"/>
          </a:xfrm>
        </p:grpSpPr>
        <p:sp>
          <p:nvSpPr>
            <p:cNvPr id="1490" name="文本框 19463"/>
            <p:cNvSpPr/>
            <p:nvPr/>
          </p:nvSpPr>
          <p:spPr>
            <a:xfrm>
              <a:off x="6411960" y="283860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1" name="文本框 19464"/>
            <p:cNvSpPr/>
            <p:nvPr/>
          </p:nvSpPr>
          <p:spPr>
            <a:xfrm>
              <a:off x="6302520" y="327024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92" name="直接连接符 19465"/>
            <p:cNvSpPr/>
            <p:nvPr/>
          </p:nvSpPr>
          <p:spPr>
            <a:xfrm>
              <a:off x="6384960" y="3414600"/>
              <a:ext cx="5047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493" name="组合 19466"/>
          <p:cNvGrpSpPr/>
          <p:nvPr/>
        </p:nvGrpSpPr>
        <p:grpSpPr>
          <a:xfrm>
            <a:off x="971640" y="2781360"/>
            <a:ext cx="1800000" cy="1073880"/>
            <a:chOff x="971640" y="2781360"/>
            <a:chExt cx="1800000" cy="1073880"/>
          </a:xfrm>
        </p:grpSpPr>
        <p:grpSp>
          <p:nvGrpSpPr>
            <p:cNvPr id="1494" name="组合 19467"/>
            <p:cNvGrpSpPr/>
            <p:nvPr/>
          </p:nvGrpSpPr>
          <p:grpSpPr>
            <a:xfrm>
              <a:off x="971640" y="2781360"/>
              <a:ext cx="504720" cy="1073880"/>
              <a:chOff x="971640" y="2781360"/>
              <a:chExt cx="504720" cy="1073880"/>
            </a:xfrm>
          </p:grpSpPr>
          <p:sp>
            <p:nvSpPr>
              <p:cNvPr id="1495" name="文本框 19468"/>
              <p:cNvSpPr/>
              <p:nvPr/>
            </p:nvSpPr>
            <p:spPr>
              <a:xfrm>
                <a:off x="971640" y="27813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6" name="文本框 19469"/>
              <p:cNvSpPr/>
              <p:nvPr/>
            </p:nvSpPr>
            <p:spPr>
              <a:xfrm>
                <a:off x="971640" y="321336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497" name="直接连接符 19470"/>
              <p:cNvSpPr/>
              <p:nvPr/>
            </p:nvSpPr>
            <p:spPr>
              <a:xfrm>
                <a:off x="995040" y="33498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498" name="矩形 19471"/>
            <p:cNvSpPr/>
            <p:nvPr/>
          </p:nvSpPr>
          <p:spPr>
            <a:xfrm>
              <a:off x="1319400" y="297468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499" name="组合 19472"/>
            <p:cNvGrpSpPr/>
            <p:nvPr/>
          </p:nvGrpSpPr>
          <p:grpSpPr>
            <a:xfrm>
              <a:off x="1763640" y="2781360"/>
              <a:ext cx="504720" cy="1073880"/>
              <a:chOff x="1763640" y="2781360"/>
              <a:chExt cx="504720" cy="1073880"/>
            </a:xfrm>
          </p:grpSpPr>
          <p:sp>
            <p:nvSpPr>
              <p:cNvPr id="1500" name="文本框 19473"/>
              <p:cNvSpPr/>
              <p:nvPr/>
            </p:nvSpPr>
            <p:spPr>
              <a:xfrm>
                <a:off x="1763640" y="27813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1" name="文本框 19474"/>
              <p:cNvSpPr/>
              <p:nvPr/>
            </p:nvSpPr>
            <p:spPr>
              <a:xfrm>
                <a:off x="1763640" y="321336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02" name="直接连接符 19475"/>
              <p:cNvSpPr/>
              <p:nvPr/>
            </p:nvSpPr>
            <p:spPr>
              <a:xfrm>
                <a:off x="1787040" y="33498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03" name="矩形 19476"/>
            <p:cNvSpPr/>
            <p:nvPr/>
          </p:nvSpPr>
          <p:spPr>
            <a:xfrm>
              <a:off x="2124000" y="295884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4" name="组合 19477"/>
          <p:cNvGrpSpPr/>
          <p:nvPr/>
        </p:nvGrpSpPr>
        <p:grpSpPr>
          <a:xfrm>
            <a:off x="2627280" y="2781360"/>
            <a:ext cx="504720" cy="1073520"/>
            <a:chOff x="2627280" y="2781360"/>
            <a:chExt cx="504720" cy="1073520"/>
          </a:xfrm>
        </p:grpSpPr>
        <p:sp>
          <p:nvSpPr>
            <p:cNvPr id="1505" name="文本框 19478"/>
            <p:cNvSpPr/>
            <p:nvPr/>
          </p:nvSpPr>
          <p:spPr>
            <a:xfrm>
              <a:off x="2627280" y="27813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6" name="文本框 19479"/>
            <p:cNvSpPr/>
            <p:nvPr/>
          </p:nvSpPr>
          <p:spPr>
            <a:xfrm>
              <a:off x="2627280" y="321300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07" name="直接连接符 19480"/>
            <p:cNvSpPr/>
            <p:nvPr/>
          </p:nvSpPr>
          <p:spPr>
            <a:xfrm>
              <a:off x="2651040" y="334980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08" name="组合 19481"/>
          <p:cNvGrpSpPr/>
          <p:nvPr/>
        </p:nvGrpSpPr>
        <p:grpSpPr>
          <a:xfrm>
            <a:off x="4716360" y="2852640"/>
            <a:ext cx="1800360" cy="1073880"/>
            <a:chOff x="4716360" y="2852640"/>
            <a:chExt cx="1800360" cy="1073880"/>
          </a:xfrm>
        </p:grpSpPr>
        <p:grpSp>
          <p:nvGrpSpPr>
            <p:cNvPr id="1509" name="组合 19482"/>
            <p:cNvGrpSpPr/>
            <p:nvPr/>
          </p:nvGrpSpPr>
          <p:grpSpPr>
            <a:xfrm>
              <a:off x="4716360" y="2852640"/>
              <a:ext cx="505080" cy="1073880"/>
              <a:chOff x="4716360" y="2852640"/>
              <a:chExt cx="505080" cy="1073880"/>
            </a:xfrm>
          </p:grpSpPr>
          <p:sp>
            <p:nvSpPr>
              <p:cNvPr id="1510" name="文本框 19483"/>
              <p:cNvSpPr/>
              <p:nvPr/>
            </p:nvSpPr>
            <p:spPr>
              <a:xfrm>
                <a:off x="4716360" y="285264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1" name="文本框 19484"/>
              <p:cNvSpPr/>
              <p:nvPr/>
            </p:nvSpPr>
            <p:spPr>
              <a:xfrm>
                <a:off x="4716360" y="328464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2" name="直接连接符 19485"/>
              <p:cNvSpPr/>
              <p:nvPr/>
            </p:nvSpPr>
            <p:spPr>
              <a:xfrm>
                <a:off x="4740120" y="3421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13" name="矩形 19486"/>
            <p:cNvSpPr/>
            <p:nvPr/>
          </p:nvSpPr>
          <p:spPr>
            <a:xfrm>
              <a:off x="5062320" y="304632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14" name="组合 19487"/>
            <p:cNvGrpSpPr/>
            <p:nvPr/>
          </p:nvGrpSpPr>
          <p:grpSpPr>
            <a:xfrm>
              <a:off x="5508720" y="2852640"/>
              <a:ext cx="504720" cy="1073880"/>
              <a:chOff x="5508720" y="2852640"/>
              <a:chExt cx="504720" cy="1073880"/>
            </a:xfrm>
          </p:grpSpPr>
          <p:sp>
            <p:nvSpPr>
              <p:cNvPr id="1515" name="文本框 19488"/>
              <p:cNvSpPr/>
              <p:nvPr/>
            </p:nvSpPr>
            <p:spPr>
              <a:xfrm>
                <a:off x="5508720" y="28526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6" name="文本框 19489"/>
              <p:cNvSpPr/>
              <p:nvPr/>
            </p:nvSpPr>
            <p:spPr>
              <a:xfrm>
                <a:off x="5508720" y="328464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17" name="直接连接符 19490"/>
              <p:cNvSpPr/>
              <p:nvPr/>
            </p:nvSpPr>
            <p:spPr>
              <a:xfrm>
                <a:off x="5532120" y="34210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18" name="矩形 19491"/>
            <p:cNvSpPr/>
            <p:nvPr/>
          </p:nvSpPr>
          <p:spPr>
            <a:xfrm>
              <a:off x="5869080" y="303048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19" name="组合 19492"/>
          <p:cNvGrpSpPr/>
          <p:nvPr/>
        </p:nvGrpSpPr>
        <p:grpSpPr>
          <a:xfrm>
            <a:off x="971640" y="4437000"/>
            <a:ext cx="1873080" cy="1121040"/>
            <a:chOff x="971640" y="4437000"/>
            <a:chExt cx="1873080" cy="1121040"/>
          </a:xfrm>
        </p:grpSpPr>
        <p:sp>
          <p:nvSpPr>
            <p:cNvPr id="1520" name="文本框 19493"/>
            <p:cNvSpPr/>
            <p:nvPr/>
          </p:nvSpPr>
          <p:spPr>
            <a:xfrm>
              <a:off x="1836720" y="443700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1" name="文本框 19494"/>
            <p:cNvSpPr/>
            <p:nvPr/>
          </p:nvSpPr>
          <p:spPr>
            <a:xfrm>
              <a:off x="1692360" y="486900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2" name="直接连接符 19495"/>
            <p:cNvSpPr/>
            <p:nvPr/>
          </p:nvSpPr>
          <p:spPr>
            <a:xfrm>
              <a:off x="1774800" y="501336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23" name="组合 19496"/>
            <p:cNvGrpSpPr/>
            <p:nvPr/>
          </p:nvGrpSpPr>
          <p:grpSpPr>
            <a:xfrm>
              <a:off x="971640" y="4437000"/>
              <a:ext cx="504720" cy="1073880"/>
              <a:chOff x="971640" y="4437000"/>
              <a:chExt cx="504720" cy="1073880"/>
            </a:xfrm>
          </p:grpSpPr>
          <p:sp>
            <p:nvSpPr>
              <p:cNvPr id="1524" name="文本框 19497"/>
              <p:cNvSpPr/>
              <p:nvPr/>
            </p:nvSpPr>
            <p:spPr>
              <a:xfrm>
                <a:off x="971640" y="443700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5" name="文本框 19498"/>
              <p:cNvSpPr/>
              <p:nvPr/>
            </p:nvSpPr>
            <p:spPr>
              <a:xfrm>
                <a:off x="971640" y="486900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26" name="直接连接符 19499"/>
              <p:cNvSpPr/>
              <p:nvPr/>
            </p:nvSpPr>
            <p:spPr>
              <a:xfrm>
                <a:off x="995040" y="50054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27" name="矩形 19500"/>
            <p:cNvSpPr/>
            <p:nvPr/>
          </p:nvSpPr>
          <p:spPr>
            <a:xfrm>
              <a:off x="1258920" y="491616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28" name="矩形 19501"/>
            <p:cNvSpPr/>
            <p:nvPr/>
          </p:nvSpPr>
          <p:spPr>
            <a:xfrm>
              <a:off x="2268360" y="463680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29" name="组合 19502"/>
          <p:cNvGrpSpPr/>
          <p:nvPr/>
        </p:nvGrpSpPr>
        <p:grpSpPr>
          <a:xfrm>
            <a:off x="2700360" y="4437000"/>
            <a:ext cx="790560" cy="1072080"/>
            <a:chOff x="2700360" y="4437000"/>
            <a:chExt cx="790560" cy="1072080"/>
          </a:xfrm>
        </p:grpSpPr>
        <p:sp>
          <p:nvSpPr>
            <p:cNvPr id="1530" name="文本框 19503"/>
            <p:cNvSpPr/>
            <p:nvPr/>
          </p:nvSpPr>
          <p:spPr>
            <a:xfrm>
              <a:off x="2811600" y="443700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1" name="文本框 19504"/>
            <p:cNvSpPr/>
            <p:nvPr/>
          </p:nvSpPr>
          <p:spPr>
            <a:xfrm>
              <a:off x="2700360" y="486720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2" name="直接连接符 19505"/>
            <p:cNvSpPr/>
            <p:nvPr/>
          </p:nvSpPr>
          <p:spPr>
            <a:xfrm>
              <a:off x="2771640" y="5013360"/>
              <a:ext cx="5050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3" name="组合 19506"/>
          <p:cNvGrpSpPr/>
          <p:nvPr/>
        </p:nvGrpSpPr>
        <p:grpSpPr>
          <a:xfrm>
            <a:off x="7091280" y="4443480"/>
            <a:ext cx="505080" cy="1073520"/>
            <a:chOff x="7091280" y="4443480"/>
            <a:chExt cx="505080" cy="1073520"/>
          </a:xfrm>
        </p:grpSpPr>
        <p:sp>
          <p:nvSpPr>
            <p:cNvPr id="1534" name="文本框 19507"/>
            <p:cNvSpPr/>
            <p:nvPr/>
          </p:nvSpPr>
          <p:spPr>
            <a:xfrm>
              <a:off x="7091280" y="444348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5" name="文本框 19508"/>
            <p:cNvSpPr/>
            <p:nvPr/>
          </p:nvSpPr>
          <p:spPr>
            <a:xfrm>
              <a:off x="7091280" y="487512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ff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36" name="直接连接符 19509"/>
            <p:cNvSpPr/>
            <p:nvPr/>
          </p:nvSpPr>
          <p:spPr>
            <a:xfrm>
              <a:off x="7095960" y="501156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37" name="组合 19510"/>
          <p:cNvGrpSpPr/>
          <p:nvPr/>
        </p:nvGrpSpPr>
        <p:grpSpPr>
          <a:xfrm>
            <a:off x="4716360" y="4437000"/>
            <a:ext cx="2519640" cy="1081800"/>
            <a:chOff x="4716360" y="4437000"/>
            <a:chExt cx="2519640" cy="1081800"/>
          </a:xfrm>
        </p:grpSpPr>
        <p:grpSp>
          <p:nvGrpSpPr>
            <p:cNvPr id="1538" name="组合 19511"/>
            <p:cNvGrpSpPr/>
            <p:nvPr/>
          </p:nvGrpSpPr>
          <p:grpSpPr>
            <a:xfrm>
              <a:off x="4716360" y="4444920"/>
              <a:ext cx="505080" cy="1073880"/>
              <a:chOff x="4716360" y="4444920"/>
              <a:chExt cx="505080" cy="1073880"/>
            </a:xfrm>
          </p:grpSpPr>
          <p:sp>
            <p:nvSpPr>
              <p:cNvPr id="1539" name="文本框 19512"/>
              <p:cNvSpPr/>
              <p:nvPr/>
            </p:nvSpPr>
            <p:spPr>
              <a:xfrm>
                <a:off x="4716360" y="444492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0" name="文本框 19513"/>
              <p:cNvSpPr/>
              <p:nvPr/>
            </p:nvSpPr>
            <p:spPr>
              <a:xfrm>
                <a:off x="4716360" y="487692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1" name="直接连接符 19514"/>
              <p:cNvSpPr/>
              <p:nvPr/>
            </p:nvSpPr>
            <p:spPr>
              <a:xfrm>
                <a:off x="4740120" y="50133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42" name="矩形 19515"/>
            <p:cNvSpPr/>
            <p:nvPr/>
          </p:nvSpPr>
          <p:spPr>
            <a:xfrm>
              <a:off x="5062320" y="463860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3" name="组合 19516"/>
            <p:cNvGrpSpPr/>
            <p:nvPr/>
          </p:nvGrpSpPr>
          <p:grpSpPr>
            <a:xfrm>
              <a:off x="5508720" y="4444920"/>
              <a:ext cx="504720" cy="1073880"/>
              <a:chOff x="5508720" y="4444920"/>
              <a:chExt cx="504720" cy="1073880"/>
            </a:xfrm>
          </p:grpSpPr>
          <p:sp>
            <p:nvSpPr>
              <p:cNvPr id="1544" name="文本框 19517"/>
              <p:cNvSpPr/>
              <p:nvPr/>
            </p:nvSpPr>
            <p:spPr>
              <a:xfrm>
                <a:off x="5508720" y="44449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5" name="文本框 19518"/>
              <p:cNvSpPr/>
              <p:nvPr/>
            </p:nvSpPr>
            <p:spPr>
              <a:xfrm>
                <a:off x="5508720" y="487692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6" name="直接连接符 19519"/>
              <p:cNvSpPr/>
              <p:nvPr/>
            </p:nvSpPr>
            <p:spPr>
              <a:xfrm>
                <a:off x="5532120" y="50133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47" name="矩形 19520"/>
            <p:cNvSpPr/>
            <p:nvPr/>
          </p:nvSpPr>
          <p:spPr>
            <a:xfrm>
              <a:off x="6588000" y="4633560"/>
              <a:ext cx="648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8" name="组合 19521"/>
            <p:cNvGrpSpPr/>
            <p:nvPr/>
          </p:nvGrpSpPr>
          <p:grpSpPr>
            <a:xfrm>
              <a:off x="6299280" y="4437000"/>
              <a:ext cx="504720" cy="1073880"/>
              <a:chOff x="6299280" y="4437000"/>
              <a:chExt cx="504720" cy="1073880"/>
            </a:xfrm>
          </p:grpSpPr>
          <p:sp>
            <p:nvSpPr>
              <p:cNvPr id="1549" name="文本框 19522"/>
              <p:cNvSpPr/>
              <p:nvPr/>
            </p:nvSpPr>
            <p:spPr>
              <a:xfrm>
                <a:off x="6299280" y="443700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0" name="文本框 19523"/>
              <p:cNvSpPr/>
              <p:nvPr/>
            </p:nvSpPr>
            <p:spPr>
              <a:xfrm>
                <a:off x="6299280" y="486900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51" name="直接连接符 19524"/>
              <p:cNvSpPr/>
              <p:nvPr/>
            </p:nvSpPr>
            <p:spPr>
              <a:xfrm>
                <a:off x="6322680" y="500544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52" name="矩形 19525"/>
            <p:cNvSpPr/>
            <p:nvPr/>
          </p:nvSpPr>
          <p:spPr>
            <a:xfrm>
              <a:off x="5854680" y="465264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553" name="Picture 20" descr="男天使副本"/>
          <p:cNvPicPr/>
          <p:nvPr/>
        </p:nvPicPr>
        <p:blipFill>
          <a:blip r:embed="rId1"/>
          <a:stretch/>
        </p:blipFill>
        <p:spPr>
          <a:xfrm>
            <a:off x="506520" y="1413000"/>
            <a:ext cx="1471680" cy="1414440"/>
          </a:xfrm>
          <a:prstGeom prst="rect">
            <a:avLst/>
          </a:prstGeom>
          <a:ln w="0">
            <a:noFill/>
          </a:ln>
        </p:spPr>
      </p:pic>
      <p:sp>
        <p:nvSpPr>
          <p:cNvPr id="1554" name="AutoShape 27"/>
          <p:cNvSpPr/>
          <p:nvPr/>
        </p:nvSpPr>
        <p:spPr>
          <a:xfrm>
            <a:off x="2268360" y="1844640"/>
            <a:ext cx="2016360" cy="576360"/>
          </a:xfrm>
          <a:prstGeom prst="wedgeRoundRectCallout">
            <a:avLst>
              <a:gd name="adj1" fmla="val -62754"/>
              <a:gd name="adj2" fmla="val 3980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出结果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复习导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6" name="矩形 19530"/>
          <p:cNvSpPr/>
          <p:nvPr/>
        </p:nvSpPr>
        <p:spPr>
          <a:xfrm>
            <a:off x="414000" y="3711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7" name="矩形 19531"/>
          <p:cNvSpPr/>
          <p:nvPr/>
        </p:nvSpPr>
        <p:spPr>
          <a:xfrm>
            <a:off x="630000" y="3927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8" name="矩形 19532"/>
          <p:cNvSpPr/>
          <p:nvPr/>
        </p:nvSpPr>
        <p:spPr>
          <a:xfrm>
            <a:off x="846000" y="4143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9" name="矩形 19533"/>
          <p:cNvSpPr/>
          <p:nvPr/>
        </p:nvSpPr>
        <p:spPr>
          <a:xfrm>
            <a:off x="1061640" y="4359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0" name="组合 20481"/>
          <p:cNvGrpSpPr/>
          <p:nvPr/>
        </p:nvGrpSpPr>
        <p:grpSpPr>
          <a:xfrm>
            <a:off x="2502000" y="1268280"/>
            <a:ext cx="5094000" cy="1143000"/>
            <a:chOff x="2502000" y="1268280"/>
            <a:chExt cx="5094000" cy="1143000"/>
          </a:xfrm>
        </p:grpSpPr>
        <p:sp>
          <p:nvSpPr>
            <p:cNvPr id="1561" name="文本框 20482"/>
            <p:cNvSpPr/>
            <p:nvPr/>
          </p:nvSpPr>
          <p:spPr>
            <a:xfrm>
              <a:off x="5737320" y="126828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2" name="组合 20483"/>
            <p:cNvGrpSpPr/>
            <p:nvPr/>
          </p:nvGrpSpPr>
          <p:grpSpPr>
            <a:xfrm>
              <a:off x="2502000" y="1268280"/>
              <a:ext cx="503280" cy="1073880"/>
              <a:chOff x="2502000" y="1268280"/>
              <a:chExt cx="503280" cy="1073880"/>
            </a:xfrm>
          </p:grpSpPr>
          <p:sp>
            <p:nvSpPr>
              <p:cNvPr id="1563" name="文本框 20484"/>
              <p:cNvSpPr/>
              <p:nvPr/>
            </p:nvSpPr>
            <p:spPr>
              <a:xfrm>
                <a:off x="2502000" y="1268280"/>
                <a:ext cx="503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4" name="文本框 20485"/>
              <p:cNvSpPr/>
              <p:nvPr/>
            </p:nvSpPr>
            <p:spPr>
              <a:xfrm>
                <a:off x="2502000" y="1700280"/>
                <a:ext cx="358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5" name="直接连接符 20486"/>
              <p:cNvSpPr/>
              <p:nvPr/>
            </p:nvSpPr>
            <p:spPr>
              <a:xfrm>
                <a:off x="2525400" y="1836720"/>
                <a:ext cx="35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66" name="文本框 20487"/>
            <p:cNvSpPr/>
            <p:nvPr/>
          </p:nvSpPr>
          <p:spPr>
            <a:xfrm>
              <a:off x="6710400" y="126828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7" name="组合 20488"/>
            <p:cNvGrpSpPr/>
            <p:nvPr/>
          </p:nvGrpSpPr>
          <p:grpSpPr>
            <a:xfrm>
              <a:off x="3259440" y="1279440"/>
              <a:ext cx="504720" cy="1073880"/>
              <a:chOff x="3259440" y="1279440"/>
              <a:chExt cx="504720" cy="1073880"/>
            </a:xfrm>
          </p:grpSpPr>
          <p:sp>
            <p:nvSpPr>
              <p:cNvPr id="1568" name="文本框 20489"/>
              <p:cNvSpPr/>
              <p:nvPr/>
            </p:nvSpPr>
            <p:spPr>
              <a:xfrm>
                <a:off x="3259440" y="12794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9" name="文本框 20490"/>
              <p:cNvSpPr/>
              <p:nvPr/>
            </p:nvSpPr>
            <p:spPr>
              <a:xfrm>
                <a:off x="3259440" y="171144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0" name="直接连接符 20491"/>
              <p:cNvSpPr/>
              <p:nvPr/>
            </p:nvSpPr>
            <p:spPr>
              <a:xfrm>
                <a:off x="3282840" y="18478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71" name="组合 20492"/>
            <p:cNvGrpSpPr/>
            <p:nvPr/>
          </p:nvGrpSpPr>
          <p:grpSpPr>
            <a:xfrm>
              <a:off x="4010040" y="1274760"/>
              <a:ext cx="505080" cy="1073880"/>
              <a:chOff x="4010040" y="1274760"/>
              <a:chExt cx="505080" cy="1073880"/>
            </a:xfrm>
          </p:grpSpPr>
          <p:sp>
            <p:nvSpPr>
              <p:cNvPr id="1572" name="文本框 20493"/>
              <p:cNvSpPr/>
              <p:nvPr/>
            </p:nvSpPr>
            <p:spPr>
              <a:xfrm>
                <a:off x="4010040" y="127476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3" name="文本框 20494"/>
              <p:cNvSpPr/>
              <p:nvPr/>
            </p:nvSpPr>
            <p:spPr>
              <a:xfrm>
                <a:off x="4010040" y="170676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4" name="直接连接符 20495"/>
              <p:cNvSpPr/>
              <p:nvPr/>
            </p:nvSpPr>
            <p:spPr>
              <a:xfrm>
                <a:off x="4033800" y="1843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575" name="文本框 20496"/>
            <p:cNvSpPr/>
            <p:nvPr/>
          </p:nvSpPr>
          <p:spPr>
            <a:xfrm>
              <a:off x="4873680" y="126828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76" name="组合 20497"/>
            <p:cNvGrpSpPr/>
            <p:nvPr/>
          </p:nvGrpSpPr>
          <p:grpSpPr>
            <a:xfrm>
              <a:off x="2791080" y="1711080"/>
              <a:ext cx="4804920" cy="700200"/>
              <a:chOff x="2791080" y="1711080"/>
              <a:chExt cx="4804920" cy="700200"/>
            </a:xfrm>
          </p:grpSpPr>
          <p:sp>
            <p:nvSpPr>
              <p:cNvPr id="1577" name="文本框 20498"/>
              <p:cNvSpPr/>
              <p:nvPr/>
            </p:nvSpPr>
            <p:spPr>
              <a:xfrm>
                <a:off x="5593680" y="171108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8" name="直接连接符 20499"/>
              <p:cNvSpPr/>
              <p:nvPr/>
            </p:nvSpPr>
            <p:spPr>
              <a:xfrm>
                <a:off x="5677200" y="1855440"/>
                <a:ext cx="50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79" name="矩形 20500"/>
              <p:cNvSpPr/>
              <p:nvPr/>
            </p:nvSpPr>
            <p:spPr>
              <a:xfrm>
                <a:off x="2791080" y="175860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0" name="文本框 20501"/>
              <p:cNvSpPr/>
              <p:nvPr/>
            </p:nvSpPr>
            <p:spPr>
              <a:xfrm>
                <a:off x="6600960" y="171108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1" name="直接连接符 20502"/>
              <p:cNvSpPr/>
              <p:nvPr/>
            </p:nvSpPr>
            <p:spPr>
              <a:xfrm>
                <a:off x="6685200" y="185544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2" name="矩形 20503"/>
              <p:cNvSpPr/>
              <p:nvPr/>
            </p:nvSpPr>
            <p:spPr>
              <a:xfrm>
                <a:off x="3548160" y="176940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3" name="矩形 20504"/>
              <p:cNvSpPr/>
              <p:nvPr/>
            </p:nvSpPr>
            <p:spPr>
              <a:xfrm>
                <a:off x="5218200" y="176940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4" name="文本框 20505"/>
              <p:cNvSpPr/>
              <p:nvPr/>
            </p:nvSpPr>
            <p:spPr>
              <a:xfrm>
                <a:off x="4731840" y="171108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5" name="直接连接符 20506"/>
              <p:cNvSpPr/>
              <p:nvPr/>
            </p:nvSpPr>
            <p:spPr>
              <a:xfrm>
                <a:off x="4815720" y="185544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6" name="矩形 20507"/>
              <p:cNvSpPr/>
              <p:nvPr/>
            </p:nvSpPr>
            <p:spPr>
              <a:xfrm>
                <a:off x="4329360" y="176940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7" name="矩形 20508"/>
              <p:cNvSpPr/>
              <p:nvPr/>
            </p:nvSpPr>
            <p:spPr>
              <a:xfrm>
                <a:off x="6174720" y="176436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88" name="矩形 20509"/>
              <p:cNvSpPr/>
              <p:nvPr/>
            </p:nvSpPr>
            <p:spPr>
              <a:xfrm>
                <a:off x="7165080" y="176940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89" name="文本框 20510"/>
          <p:cNvSpPr/>
          <p:nvPr/>
        </p:nvSpPr>
        <p:spPr>
          <a:xfrm>
            <a:off x="7596360" y="1500120"/>
            <a:ext cx="1725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90" name="组合 20511"/>
          <p:cNvGrpSpPr/>
          <p:nvPr/>
        </p:nvGrpSpPr>
        <p:grpSpPr>
          <a:xfrm>
            <a:off x="539640" y="2781360"/>
            <a:ext cx="4464000" cy="1203120"/>
            <a:chOff x="539640" y="2781360"/>
            <a:chExt cx="4464000" cy="1203120"/>
          </a:xfrm>
        </p:grpSpPr>
        <p:pic>
          <p:nvPicPr>
            <p:cNvPr id="1591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539640" y="2781360"/>
              <a:ext cx="1297080" cy="12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2" name="AutoShape 27"/>
            <p:cNvSpPr/>
            <p:nvPr/>
          </p:nvSpPr>
          <p:spPr>
            <a:xfrm>
              <a:off x="1908000" y="2925720"/>
              <a:ext cx="3095640" cy="575640"/>
            </a:xfrm>
            <a:prstGeom prst="wedgeRoundRectCallout">
              <a:avLst>
                <a:gd name="adj1" fmla="val -55949"/>
                <a:gd name="adj2" fmla="val 4834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你能发现什么规律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93" name="组合 20514"/>
          <p:cNvGrpSpPr/>
          <p:nvPr/>
        </p:nvGrpSpPr>
        <p:grpSpPr>
          <a:xfrm>
            <a:off x="3276720" y="4365720"/>
            <a:ext cx="4319640" cy="1657080"/>
            <a:chOff x="3276720" y="4365720"/>
            <a:chExt cx="4319640" cy="1657080"/>
          </a:xfrm>
        </p:grpSpPr>
        <p:pic>
          <p:nvPicPr>
            <p:cNvPr id="1594" name="图片 20515" descr="黄色衣服女孩"/>
            <p:cNvPicPr/>
            <p:nvPr/>
          </p:nvPicPr>
          <p:blipFill>
            <a:blip r:embed="rId2"/>
            <a:stretch/>
          </p:blipFill>
          <p:spPr>
            <a:xfrm>
              <a:off x="6443640" y="4365720"/>
              <a:ext cx="1152720" cy="165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5" name="组合 20516"/>
            <p:cNvGrpSpPr/>
            <p:nvPr/>
          </p:nvGrpSpPr>
          <p:grpSpPr>
            <a:xfrm>
              <a:off x="3276720" y="4897080"/>
              <a:ext cx="3095640" cy="1049760"/>
              <a:chOff x="3276720" y="4897080"/>
              <a:chExt cx="3095640" cy="1049760"/>
            </a:xfrm>
          </p:grpSpPr>
          <p:sp>
            <p:nvSpPr>
              <p:cNvPr id="1596" name="AutoShape 27"/>
              <p:cNvSpPr/>
              <p:nvPr/>
            </p:nvSpPr>
            <p:spPr>
              <a:xfrm>
                <a:off x="3276720" y="4897080"/>
                <a:ext cx="3095640" cy="1034640"/>
              </a:xfrm>
              <a:prstGeom prst="wedgeRoundRectCallout">
                <a:avLst>
                  <a:gd name="adj1" fmla="val 56101"/>
                  <a:gd name="adj2" fmla="val -29601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2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从第二个数开始，每个数是前一个数的    。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597" name="组合 20518"/>
              <p:cNvGrpSpPr/>
              <p:nvPr/>
            </p:nvGrpSpPr>
            <p:grpSpPr>
              <a:xfrm>
                <a:off x="5364360" y="5212800"/>
                <a:ext cx="504720" cy="734040"/>
                <a:chOff x="5364360" y="5212800"/>
                <a:chExt cx="504720" cy="734040"/>
              </a:xfrm>
            </p:grpSpPr>
            <p:sp>
              <p:nvSpPr>
                <p:cNvPr id="1598" name="文本框 20519"/>
                <p:cNvSpPr/>
                <p:nvPr/>
              </p:nvSpPr>
              <p:spPr>
                <a:xfrm>
                  <a:off x="5364360" y="54871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2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599" name="文本框 20520"/>
                <p:cNvSpPr/>
                <p:nvPr/>
              </p:nvSpPr>
              <p:spPr>
                <a:xfrm>
                  <a:off x="5364360" y="52128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</a:t>
                  </a:r>
                  <a:endPara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00" name="直接连接符 20521"/>
                <p:cNvSpPr/>
                <p:nvPr/>
              </p:nvSpPr>
              <p:spPr>
                <a:xfrm>
                  <a:off x="5364360" y="560952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grpSp>
        <p:nvGrpSpPr>
          <p:cNvPr id="1601" name="组合 20522"/>
          <p:cNvGrpSpPr/>
          <p:nvPr/>
        </p:nvGrpSpPr>
        <p:grpSpPr>
          <a:xfrm>
            <a:off x="528120" y="2708280"/>
            <a:ext cx="4548600" cy="2376360"/>
            <a:chOff x="528120" y="2708280"/>
            <a:chExt cx="4548600" cy="2376360"/>
          </a:xfrm>
        </p:grpSpPr>
        <p:pic>
          <p:nvPicPr>
            <p:cNvPr id="1602" name="图片 20523" descr="未标题-6"/>
            <p:cNvPicPr/>
            <p:nvPr/>
          </p:nvPicPr>
          <p:blipFill>
            <a:blip r:embed="rId3"/>
            <a:stretch/>
          </p:blipFill>
          <p:spPr>
            <a:xfrm flipH="1">
              <a:off x="528120" y="3139920"/>
              <a:ext cx="123516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AutoShape 27"/>
            <p:cNvSpPr/>
            <p:nvPr/>
          </p:nvSpPr>
          <p:spPr>
            <a:xfrm>
              <a:off x="1763640" y="2708280"/>
              <a:ext cx="3313080" cy="1657440"/>
            </a:xfrm>
            <a:prstGeom prst="wedgeRoundRectCallout">
              <a:avLst>
                <a:gd name="adj1" fmla="val -57763"/>
                <a:gd name="adj2" fmla="val 1580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我一个一个加下去看看，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答案好像有点规律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04" name="组合 20525"/>
          <p:cNvGrpSpPr/>
          <p:nvPr/>
        </p:nvGrpSpPr>
        <p:grpSpPr>
          <a:xfrm>
            <a:off x="5580000" y="2465280"/>
            <a:ext cx="2160360" cy="1073880"/>
            <a:chOff x="5580000" y="2465280"/>
            <a:chExt cx="2160360" cy="1073880"/>
          </a:xfrm>
        </p:grpSpPr>
        <p:grpSp>
          <p:nvGrpSpPr>
            <p:cNvPr id="1605" name="组合 20526"/>
            <p:cNvGrpSpPr/>
            <p:nvPr/>
          </p:nvGrpSpPr>
          <p:grpSpPr>
            <a:xfrm>
              <a:off x="5580000" y="2465280"/>
              <a:ext cx="504720" cy="1073880"/>
              <a:chOff x="5580000" y="2465280"/>
              <a:chExt cx="504720" cy="1073880"/>
            </a:xfrm>
          </p:grpSpPr>
          <p:sp>
            <p:nvSpPr>
              <p:cNvPr id="1606" name="文本框 20527"/>
              <p:cNvSpPr/>
              <p:nvPr/>
            </p:nvSpPr>
            <p:spPr>
              <a:xfrm>
                <a:off x="5580000" y="2465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7" name="文本框 20528"/>
              <p:cNvSpPr/>
              <p:nvPr/>
            </p:nvSpPr>
            <p:spPr>
              <a:xfrm>
                <a:off x="5580000" y="289728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08" name="直接连接符 20529"/>
              <p:cNvSpPr/>
              <p:nvPr/>
            </p:nvSpPr>
            <p:spPr>
              <a:xfrm>
                <a:off x="5603400" y="3033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09" name="矩形 20530"/>
            <p:cNvSpPr/>
            <p:nvPr/>
          </p:nvSpPr>
          <p:spPr>
            <a:xfrm>
              <a:off x="5929200" y="268092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0" name="组合 20531"/>
            <p:cNvGrpSpPr/>
            <p:nvPr/>
          </p:nvGrpSpPr>
          <p:grpSpPr>
            <a:xfrm>
              <a:off x="6372000" y="2465280"/>
              <a:ext cx="504720" cy="1073880"/>
              <a:chOff x="6372000" y="2465280"/>
              <a:chExt cx="504720" cy="1073880"/>
            </a:xfrm>
          </p:grpSpPr>
          <p:sp>
            <p:nvSpPr>
              <p:cNvPr id="1611" name="文本框 20532"/>
              <p:cNvSpPr/>
              <p:nvPr/>
            </p:nvSpPr>
            <p:spPr>
              <a:xfrm>
                <a:off x="6372000" y="2465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2" name="文本框 20533"/>
              <p:cNvSpPr/>
              <p:nvPr/>
            </p:nvSpPr>
            <p:spPr>
              <a:xfrm>
                <a:off x="6372000" y="289728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3" name="直接连接符 20534"/>
              <p:cNvSpPr/>
              <p:nvPr/>
            </p:nvSpPr>
            <p:spPr>
              <a:xfrm>
                <a:off x="6395400" y="3033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14" name="矩形 20535"/>
            <p:cNvSpPr/>
            <p:nvPr/>
          </p:nvSpPr>
          <p:spPr>
            <a:xfrm>
              <a:off x="6732360" y="264276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5" name="组合 20536"/>
            <p:cNvGrpSpPr/>
            <p:nvPr/>
          </p:nvGrpSpPr>
          <p:grpSpPr>
            <a:xfrm>
              <a:off x="7235640" y="2465280"/>
              <a:ext cx="504720" cy="1073880"/>
              <a:chOff x="7235640" y="2465280"/>
              <a:chExt cx="504720" cy="1073880"/>
            </a:xfrm>
          </p:grpSpPr>
          <p:sp>
            <p:nvSpPr>
              <p:cNvPr id="1616" name="文本框 20537"/>
              <p:cNvSpPr/>
              <p:nvPr/>
            </p:nvSpPr>
            <p:spPr>
              <a:xfrm>
                <a:off x="7235640" y="2465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7" name="文本框 20538"/>
              <p:cNvSpPr/>
              <p:nvPr/>
            </p:nvSpPr>
            <p:spPr>
              <a:xfrm>
                <a:off x="7235640" y="289728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8" name="直接连接符 20539"/>
              <p:cNvSpPr/>
              <p:nvPr/>
            </p:nvSpPr>
            <p:spPr>
              <a:xfrm>
                <a:off x="7259040" y="3033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19" name="组合 20540"/>
          <p:cNvGrpSpPr/>
          <p:nvPr/>
        </p:nvGrpSpPr>
        <p:grpSpPr>
          <a:xfrm>
            <a:off x="5580000" y="3400560"/>
            <a:ext cx="2160360" cy="1073880"/>
            <a:chOff x="5580000" y="3400560"/>
            <a:chExt cx="2160360" cy="1073880"/>
          </a:xfrm>
        </p:grpSpPr>
        <p:grpSp>
          <p:nvGrpSpPr>
            <p:cNvPr id="1620" name="组合 20541"/>
            <p:cNvGrpSpPr/>
            <p:nvPr/>
          </p:nvGrpSpPr>
          <p:grpSpPr>
            <a:xfrm>
              <a:off x="5580000" y="3400560"/>
              <a:ext cx="504720" cy="1073880"/>
              <a:chOff x="5580000" y="3400560"/>
              <a:chExt cx="504720" cy="1073880"/>
            </a:xfrm>
          </p:grpSpPr>
          <p:sp>
            <p:nvSpPr>
              <p:cNvPr id="1621" name="文本框 20542"/>
              <p:cNvSpPr/>
              <p:nvPr/>
            </p:nvSpPr>
            <p:spPr>
              <a:xfrm>
                <a:off x="5580000" y="34005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2" name="文本框 20543"/>
              <p:cNvSpPr/>
              <p:nvPr/>
            </p:nvSpPr>
            <p:spPr>
              <a:xfrm>
                <a:off x="5580000" y="383256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3" name="直接连接符 20544"/>
              <p:cNvSpPr/>
              <p:nvPr/>
            </p:nvSpPr>
            <p:spPr>
              <a:xfrm>
                <a:off x="5603400" y="39690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24" name="矩形 20545"/>
            <p:cNvSpPr/>
            <p:nvPr/>
          </p:nvSpPr>
          <p:spPr>
            <a:xfrm>
              <a:off x="5929200" y="361620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25" name="组合 20546"/>
            <p:cNvGrpSpPr/>
            <p:nvPr/>
          </p:nvGrpSpPr>
          <p:grpSpPr>
            <a:xfrm>
              <a:off x="6372000" y="3400560"/>
              <a:ext cx="504720" cy="1073880"/>
              <a:chOff x="6372000" y="3400560"/>
              <a:chExt cx="504720" cy="1073880"/>
            </a:xfrm>
          </p:grpSpPr>
          <p:sp>
            <p:nvSpPr>
              <p:cNvPr id="1626" name="文本框 20547"/>
              <p:cNvSpPr/>
              <p:nvPr/>
            </p:nvSpPr>
            <p:spPr>
              <a:xfrm>
                <a:off x="6372000" y="34005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7" name="文本框 20548"/>
              <p:cNvSpPr/>
              <p:nvPr/>
            </p:nvSpPr>
            <p:spPr>
              <a:xfrm>
                <a:off x="6372000" y="383256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8" name="直接连接符 20549"/>
              <p:cNvSpPr/>
              <p:nvPr/>
            </p:nvSpPr>
            <p:spPr>
              <a:xfrm>
                <a:off x="6395400" y="39690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29" name="矩形 20550"/>
            <p:cNvSpPr/>
            <p:nvPr/>
          </p:nvSpPr>
          <p:spPr>
            <a:xfrm>
              <a:off x="6732360" y="357840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30" name="组合 20551"/>
            <p:cNvGrpSpPr/>
            <p:nvPr/>
          </p:nvGrpSpPr>
          <p:grpSpPr>
            <a:xfrm>
              <a:off x="7235640" y="3400560"/>
              <a:ext cx="504720" cy="1073880"/>
              <a:chOff x="7235640" y="3400560"/>
              <a:chExt cx="504720" cy="1073880"/>
            </a:xfrm>
          </p:grpSpPr>
          <p:sp>
            <p:nvSpPr>
              <p:cNvPr id="1631" name="文本框 20552"/>
              <p:cNvSpPr/>
              <p:nvPr/>
            </p:nvSpPr>
            <p:spPr>
              <a:xfrm>
                <a:off x="7235640" y="34005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2" name="文本框 20553"/>
              <p:cNvSpPr/>
              <p:nvPr/>
            </p:nvSpPr>
            <p:spPr>
              <a:xfrm>
                <a:off x="7235640" y="383256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3" name="直接连接符 20554"/>
              <p:cNvSpPr/>
              <p:nvPr/>
            </p:nvSpPr>
            <p:spPr>
              <a:xfrm>
                <a:off x="7259040" y="39690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34" name="组合 20555"/>
          <p:cNvGrpSpPr/>
          <p:nvPr/>
        </p:nvGrpSpPr>
        <p:grpSpPr>
          <a:xfrm>
            <a:off x="5580000" y="4336920"/>
            <a:ext cx="2552760" cy="1122480"/>
            <a:chOff x="5580000" y="4336920"/>
            <a:chExt cx="2552760" cy="1122480"/>
          </a:xfrm>
        </p:grpSpPr>
        <p:sp>
          <p:nvSpPr>
            <p:cNvPr id="1635" name="矩形 20556"/>
            <p:cNvSpPr/>
            <p:nvPr/>
          </p:nvSpPr>
          <p:spPr>
            <a:xfrm>
              <a:off x="5865480" y="481752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36" name="组合 20557"/>
            <p:cNvGrpSpPr/>
            <p:nvPr/>
          </p:nvGrpSpPr>
          <p:grpSpPr>
            <a:xfrm>
              <a:off x="5580000" y="4336920"/>
              <a:ext cx="2552760" cy="1075320"/>
              <a:chOff x="5580000" y="4336920"/>
              <a:chExt cx="2552760" cy="1075320"/>
            </a:xfrm>
          </p:grpSpPr>
          <p:sp>
            <p:nvSpPr>
              <p:cNvPr id="1637" name="文本框 20558"/>
              <p:cNvSpPr/>
              <p:nvPr/>
            </p:nvSpPr>
            <p:spPr>
              <a:xfrm>
                <a:off x="6445440" y="433836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8" name="文本框 20559"/>
              <p:cNvSpPr/>
              <p:nvPr/>
            </p:nvSpPr>
            <p:spPr>
              <a:xfrm>
                <a:off x="6300720" y="477000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9" name="直接连接符 20560"/>
              <p:cNvSpPr/>
              <p:nvPr/>
            </p:nvSpPr>
            <p:spPr>
              <a:xfrm>
                <a:off x="6383520" y="491472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40" name="组合 20561"/>
              <p:cNvGrpSpPr/>
              <p:nvPr/>
            </p:nvGrpSpPr>
            <p:grpSpPr>
              <a:xfrm>
                <a:off x="5580000" y="4338360"/>
                <a:ext cx="505080" cy="1073880"/>
                <a:chOff x="5580000" y="4338360"/>
                <a:chExt cx="505080" cy="1073880"/>
              </a:xfrm>
            </p:grpSpPr>
            <p:sp>
              <p:nvSpPr>
                <p:cNvPr id="1641" name="文本框 20562"/>
                <p:cNvSpPr/>
                <p:nvPr/>
              </p:nvSpPr>
              <p:spPr>
                <a:xfrm>
                  <a:off x="5580000" y="4338360"/>
                  <a:ext cx="50508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7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42" name="文本框 20563"/>
                <p:cNvSpPr/>
                <p:nvPr/>
              </p:nvSpPr>
              <p:spPr>
                <a:xfrm>
                  <a:off x="5580000" y="4770360"/>
                  <a:ext cx="3603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8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43" name="直接连接符 20564"/>
                <p:cNvSpPr/>
                <p:nvPr/>
              </p:nvSpPr>
              <p:spPr>
                <a:xfrm>
                  <a:off x="5603760" y="49068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44" name="矩形 20565"/>
              <p:cNvSpPr/>
              <p:nvPr/>
            </p:nvSpPr>
            <p:spPr>
              <a:xfrm>
                <a:off x="6877080" y="4538160"/>
                <a:ext cx="576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5" name="文本框 20566"/>
              <p:cNvSpPr/>
              <p:nvPr/>
            </p:nvSpPr>
            <p:spPr>
              <a:xfrm>
                <a:off x="7342200" y="4336920"/>
                <a:ext cx="6811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6" name="文本框 20567"/>
              <p:cNvSpPr/>
              <p:nvPr/>
            </p:nvSpPr>
            <p:spPr>
              <a:xfrm>
                <a:off x="7342200" y="476856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7" name="直接连接符 20568"/>
              <p:cNvSpPr/>
              <p:nvPr/>
            </p:nvSpPr>
            <p:spPr>
              <a:xfrm>
                <a:off x="7404120" y="491292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48" name="组合 20569"/>
          <p:cNvGrpSpPr/>
          <p:nvPr/>
        </p:nvGrpSpPr>
        <p:grpSpPr>
          <a:xfrm>
            <a:off x="5580000" y="5192640"/>
            <a:ext cx="2744640" cy="1665720"/>
            <a:chOff x="5580000" y="5192640"/>
            <a:chExt cx="2744640" cy="1665720"/>
          </a:xfrm>
        </p:grpSpPr>
        <p:grpSp>
          <p:nvGrpSpPr>
            <p:cNvPr id="1649" name="组合 20570"/>
            <p:cNvGrpSpPr/>
            <p:nvPr/>
          </p:nvGrpSpPr>
          <p:grpSpPr>
            <a:xfrm>
              <a:off x="5580000" y="5192640"/>
              <a:ext cx="2744640" cy="1492200"/>
              <a:chOff x="5580000" y="5192640"/>
              <a:chExt cx="2744640" cy="1492200"/>
            </a:xfrm>
          </p:grpSpPr>
          <p:sp>
            <p:nvSpPr>
              <p:cNvPr id="1650" name="文本框 20571"/>
              <p:cNvSpPr/>
              <p:nvPr/>
            </p:nvSpPr>
            <p:spPr>
              <a:xfrm>
                <a:off x="6637320" y="519264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1" name="文本框 20572"/>
              <p:cNvSpPr/>
              <p:nvPr/>
            </p:nvSpPr>
            <p:spPr>
              <a:xfrm>
                <a:off x="6492960" y="562428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2" name="直接连接符 20573"/>
              <p:cNvSpPr/>
              <p:nvPr/>
            </p:nvSpPr>
            <p:spPr>
              <a:xfrm>
                <a:off x="6575400" y="576900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3" name="矩形 20574"/>
              <p:cNvSpPr/>
              <p:nvPr/>
            </p:nvSpPr>
            <p:spPr>
              <a:xfrm>
                <a:off x="6059520" y="5671800"/>
                <a:ext cx="43344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4" name="矩形 20575"/>
              <p:cNvSpPr/>
              <p:nvPr/>
            </p:nvSpPr>
            <p:spPr>
              <a:xfrm>
                <a:off x="7068960" y="5392440"/>
                <a:ext cx="576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＝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5" name="文本框 20576"/>
              <p:cNvSpPr/>
              <p:nvPr/>
            </p:nvSpPr>
            <p:spPr>
              <a:xfrm>
                <a:off x="7523280" y="5243400"/>
                <a:ext cx="680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6" name="文本框 20577"/>
              <p:cNvSpPr/>
              <p:nvPr/>
            </p:nvSpPr>
            <p:spPr>
              <a:xfrm>
                <a:off x="7534080" y="567504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57" name="直接连接符 20578"/>
              <p:cNvSpPr/>
              <p:nvPr/>
            </p:nvSpPr>
            <p:spPr>
              <a:xfrm>
                <a:off x="7596000" y="5806800"/>
                <a:ext cx="505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1658" name="组合 20579"/>
              <p:cNvGrpSpPr/>
              <p:nvPr/>
            </p:nvGrpSpPr>
            <p:grpSpPr>
              <a:xfrm>
                <a:off x="5580000" y="5221080"/>
                <a:ext cx="801720" cy="1073520"/>
                <a:chOff x="5580000" y="5221080"/>
                <a:chExt cx="801720" cy="1073520"/>
              </a:xfrm>
            </p:grpSpPr>
            <p:sp>
              <p:nvSpPr>
                <p:cNvPr id="1659" name="文本框 20580"/>
                <p:cNvSpPr/>
                <p:nvPr/>
              </p:nvSpPr>
              <p:spPr>
                <a:xfrm>
                  <a:off x="5580000" y="5221080"/>
                  <a:ext cx="6811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5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0" name="文本框 20581"/>
                <p:cNvSpPr/>
                <p:nvPr/>
              </p:nvSpPr>
              <p:spPr>
                <a:xfrm>
                  <a:off x="5591160" y="5652720"/>
                  <a:ext cx="79056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8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3000" spc="-1" strike="noStrike" u="sng">
                      <a:solidFill>
                        <a:srgbClr val="000000"/>
                      </a:solidFill>
                      <a:uFillTx/>
                      <a:latin typeface="Arial"/>
                      <a:ea typeface="楷体_GB2312"/>
                    </a:rPr>
                    <a:t>16</a:t>
                  </a:r>
                  <a:endPara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1661" name="直接连接符 20582"/>
                <p:cNvSpPr/>
                <p:nvPr/>
              </p:nvSpPr>
              <p:spPr>
                <a:xfrm>
                  <a:off x="5694480" y="5778360"/>
                  <a:ext cx="5047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  <p:sp>
            <p:nvSpPr>
              <p:cNvPr id="1662" name="文本框 20583"/>
              <p:cNvSpPr/>
              <p:nvPr/>
            </p:nvSpPr>
            <p:spPr>
              <a:xfrm>
                <a:off x="5703840" y="62276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63" name="文本框 20584"/>
            <p:cNvSpPr/>
            <p:nvPr/>
          </p:nvSpPr>
          <p:spPr>
            <a:xfrm>
              <a:off x="5698080" y="6216480"/>
              <a:ext cx="4734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664" name="矩形 20585"/>
          <p:cNvSpPr/>
          <p:nvPr/>
        </p:nvSpPr>
        <p:spPr>
          <a:xfrm>
            <a:off x="1906560" y="3487680"/>
            <a:ext cx="30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加下去，等号右边的分数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越来越接近于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5" name="AutoShape 27"/>
          <p:cNvSpPr/>
          <p:nvPr/>
        </p:nvSpPr>
        <p:spPr>
          <a:xfrm>
            <a:off x="1332000" y="1628640"/>
            <a:ext cx="1079280" cy="432000"/>
          </a:xfrm>
          <a:prstGeom prst="wedgeRoundRectCallout">
            <a:avLst>
              <a:gd name="adj1" fmla="val -53675"/>
              <a:gd name="adj2" fmla="val 8125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666" name="Picture 20" descr="男天使副本"/>
          <p:cNvPicPr/>
          <p:nvPr/>
        </p:nvPicPr>
        <p:blipFill>
          <a:blip r:embed="rId4"/>
          <a:stretch/>
        </p:blipFill>
        <p:spPr>
          <a:xfrm>
            <a:off x="0" y="1461960"/>
            <a:ext cx="1258920" cy="1168560"/>
          </a:xfrm>
          <a:prstGeom prst="rect">
            <a:avLst/>
          </a:prstGeom>
          <a:ln w="0">
            <a:noFill/>
          </a:ln>
        </p:spPr>
      </p:pic>
      <p:sp>
        <p:nvSpPr>
          <p:cNvPr id="166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68" name="矩形 20590"/>
          <p:cNvSpPr/>
          <p:nvPr/>
        </p:nvSpPr>
        <p:spPr>
          <a:xfrm>
            <a:off x="342720" y="5589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AutoShape 27"/>
          <p:cNvSpPr/>
          <p:nvPr/>
        </p:nvSpPr>
        <p:spPr>
          <a:xfrm>
            <a:off x="1549440" y="2565360"/>
            <a:ext cx="2735280" cy="1295280"/>
          </a:xfrm>
          <a:prstGeom prst="wedgeRoundRectCallout">
            <a:avLst>
              <a:gd name="adj1" fmla="val -59458"/>
              <a:gd name="adj2" fmla="val -453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以画个图来帮助思考。用一个圆或一条线段来表示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70" name="组合 21506"/>
          <p:cNvGrpSpPr/>
          <p:nvPr/>
        </p:nvGrpSpPr>
        <p:grpSpPr>
          <a:xfrm>
            <a:off x="2484360" y="1301760"/>
            <a:ext cx="5094000" cy="1143000"/>
            <a:chOff x="2484360" y="1301760"/>
            <a:chExt cx="5094000" cy="1143000"/>
          </a:xfrm>
        </p:grpSpPr>
        <p:sp>
          <p:nvSpPr>
            <p:cNvPr id="1671" name="文本框 21507"/>
            <p:cNvSpPr/>
            <p:nvPr/>
          </p:nvSpPr>
          <p:spPr>
            <a:xfrm>
              <a:off x="5719680" y="13017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2" name="组合 21508"/>
            <p:cNvGrpSpPr/>
            <p:nvPr/>
          </p:nvGrpSpPr>
          <p:grpSpPr>
            <a:xfrm>
              <a:off x="2484360" y="1301760"/>
              <a:ext cx="503280" cy="1073880"/>
              <a:chOff x="2484360" y="1301760"/>
              <a:chExt cx="503280" cy="1073880"/>
            </a:xfrm>
          </p:grpSpPr>
          <p:sp>
            <p:nvSpPr>
              <p:cNvPr id="1673" name="文本框 21509"/>
              <p:cNvSpPr/>
              <p:nvPr/>
            </p:nvSpPr>
            <p:spPr>
              <a:xfrm>
                <a:off x="2484360" y="1301760"/>
                <a:ext cx="503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4" name="文本框 21510"/>
              <p:cNvSpPr/>
              <p:nvPr/>
            </p:nvSpPr>
            <p:spPr>
              <a:xfrm>
                <a:off x="2484360" y="1733760"/>
                <a:ext cx="358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5" name="直接连接符 21511"/>
              <p:cNvSpPr/>
              <p:nvPr/>
            </p:nvSpPr>
            <p:spPr>
              <a:xfrm>
                <a:off x="2507760" y="1870200"/>
                <a:ext cx="35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76" name="文本框 21512"/>
            <p:cNvSpPr/>
            <p:nvPr/>
          </p:nvSpPr>
          <p:spPr>
            <a:xfrm>
              <a:off x="6692760" y="130176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77" name="组合 21513"/>
            <p:cNvGrpSpPr/>
            <p:nvPr/>
          </p:nvGrpSpPr>
          <p:grpSpPr>
            <a:xfrm>
              <a:off x="3241800" y="1312920"/>
              <a:ext cx="504720" cy="1073880"/>
              <a:chOff x="3241800" y="1312920"/>
              <a:chExt cx="504720" cy="1073880"/>
            </a:xfrm>
          </p:grpSpPr>
          <p:sp>
            <p:nvSpPr>
              <p:cNvPr id="1678" name="文本框 21514"/>
              <p:cNvSpPr/>
              <p:nvPr/>
            </p:nvSpPr>
            <p:spPr>
              <a:xfrm>
                <a:off x="3241800" y="13129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9" name="文本框 21515"/>
              <p:cNvSpPr/>
              <p:nvPr/>
            </p:nvSpPr>
            <p:spPr>
              <a:xfrm>
                <a:off x="3241800" y="174492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0" name="直接连接符 21516"/>
              <p:cNvSpPr/>
              <p:nvPr/>
            </p:nvSpPr>
            <p:spPr>
              <a:xfrm>
                <a:off x="3265200" y="18813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81" name="组合 21517"/>
            <p:cNvGrpSpPr/>
            <p:nvPr/>
          </p:nvGrpSpPr>
          <p:grpSpPr>
            <a:xfrm>
              <a:off x="3992400" y="1308240"/>
              <a:ext cx="505080" cy="1073880"/>
              <a:chOff x="3992400" y="1308240"/>
              <a:chExt cx="505080" cy="1073880"/>
            </a:xfrm>
          </p:grpSpPr>
          <p:sp>
            <p:nvSpPr>
              <p:cNvPr id="1682" name="文本框 21518"/>
              <p:cNvSpPr/>
              <p:nvPr/>
            </p:nvSpPr>
            <p:spPr>
              <a:xfrm>
                <a:off x="3992400" y="130824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3" name="文本框 21519"/>
              <p:cNvSpPr/>
              <p:nvPr/>
            </p:nvSpPr>
            <p:spPr>
              <a:xfrm>
                <a:off x="3992400" y="174024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4" name="直接连接符 21520"/>
              <p:cNvSpPr/>
              <p:nvPr/>
            </p:nvSpPr>
            <p:spPr>
              <a:xfrm>
                <a:off x="4016160" y="1876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685" name="文本框 21521"/>
            <p:cNvSpPr/>
            <p:nvPr/>
          </p:nvSpPr>
          <p:spPr>
            <a:xfrm>
              <a:off x="4856040" y="130176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86" name="组合 21522"/>
            <p:cNvGrpSpPr/>
            <p:nvPr/>
          </p:nvGrpSpPr>
          <p:grpSpPr>
            <a:xfrm>
              <a:off x="2773440" y="1744560"/>
              <a:ext cx="4804920" cy="700200"/>
              <a:chOff x="2773440" y="1744560"/>
              <a:chExt cx="4804920" cy="700200"/>
            </a:xfrm>
          </p:grpSpPr>
          <p:sp>
            <p:nvSpPr>
              <p:cNvPr id="1687" name="文本框 21523"/>
              <p:cNvSpPr/>
              <p:nvPr/>
            </p:nvSpPr>
            <p:spPr>
              <a:xfrm>
                <a:off x="5576040" y="17445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8" name="直接连接符 21524"/>
              <p:cNvSpPr/>
              <p:nvPr/>
            </p:nvSpPr>
            <p:spPr>
              <a:xfrm>
                <a:off x="5659560" y="1888920"/>
                <a:ext cx="50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9" name="矩形 21525"/>
              <p:cNvSpPr/>
              <p:nvPr/>
            </p:nvSpPr>
            <p:spPr>
              <a:xfrm>
                <a:off x="2773440" y="17920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0" name="文本框 21526"/>
              <p:cNvSpPr/>
              <p:nvPr/>
            </p:nvSpPr>
            <p:spPr>
              <a:xfrm>
                <a:off x="6583320" y="17445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1" name="直接连接符 21527"/>
              <p:cNvSpPr/>
              <p:nvPr/>
            </p:nvSpPr>
            <p:spPr>
              <a:xfrm>
                <a:off x="6667560" y="188892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2" name="矩形 21528"/>
              <p:cNvSpPr/>
              <p:nvPr/>
            </p:nvSpPr>
            <p:spPr>
              <a:xfrm>
                <a:off x="3530520" y="18028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3" name="矩形 21529"/>
              <p:cNvSpPr/>
              <p:nvPr/>
            </p:nvSpPr>
            <p:spPr>
              <a:xfrm>
                <a:off x="5200560" y="18028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4" name="文本框 21530"/>
              <p:cNvSpPr/>
              <p:nvPr/>
            </p:nvSpPr>
            <p:spPr>
              <a:xfrm>
                <a:off x="4714200" y="17445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5" name="直接连接符 21531"/>
              <p:cNvSpPr/>
              <p:nvPr/>
            </p:nvSpPr>
            <p:spPr>
              <a:xfrm>
                <a:off x="4798080" y="188892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6" name="矩形 21532"/>
              <p:cNvSpPr/>
              <p:nvPr/>
            </p:nvSpPr>
            <p:spPr>
              <a:xfrm>
                <a:off x="4311720" y="18028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7" name="矩形 21533"/>
              <p:cNvSpPr/>
              <p:nvPr/>
            </p:nvSpPr>
            <p:spPr>
              <a:xfrm>
                <a:off x="6157080" y="179784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98" name="矩形 21534"/>
              <p:cNvSpPr/>
              <p:nvPr/>
            </p:nvSpPr>
            <p:spPr>
              <a:xfrm>
                <a:off x="7147440" y="180288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699" name="文本框 21535"/>
          <p:cNvSpPr/>
          <p:nvPr/>
        </p:nvSpPr>
        <p:spPr>
          <a:xfrm>
            <a:off x="7451640" y="1557360"/>
            <a:ext cx="1548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…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0" name="矩形 21536"/>
          <p:cNvSpPr/>
          <p:nvPr/>
        </p:nvSpPr>
        <p:spPr>
          <a:xfrm>
            <a:off x="7812000" y="1581120"/>
            <a:ext cx="86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3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1" name="矩形 21537"/>
          <p:cNvSpPr/>
          <p:nvPr/>
        </p:nvSpPr>
        <p:spPr>
          <a:xfrm>
            <a:off x="7498440" y="1557360"/>
            <a:ext cx="473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02" name="Picture 20" descr="男天使副本"/>
          <p:cNvPicPr/>
          <p:nvPr/>
        </p:nvPicPr>
        <p:blipFill>
          <a:blip r:embed="rId1"/>
          <a:stretch/>
        </p:blipFill>
        <p:spPr>
          <a:xfrm>
            <a:off x="0" y="2492280"/>
            <a:ext cx="1332000" cy="1236600"/>
          </a:xfrm>
          <a:prstGeom prst="rect">
            <a:avLst/>
          </a:prstGeom>
          <a:ln w="0">
            <a:noFill/>
          </a:ln>
        </p:spPr>
      </p:pic>
      <p:grpSp>
        <p:nvGrpSpPr>
          <p:cNvPr id="1703" name="组合 21539"/>
          <p:cNvGrpSpPr/>
          <p:nvPr/>
        </p:nvGrpSpPr>
        <p:grpSpPr>
          <a:xfrm>
            <a:off x="4427640" y="4913280"/>
            <a:ext cx="4145040" cy="1755720"/>
            <a:chOff x="4427640" y="4913280"/>
            <a:chExt cx="4145040" cy="1755720"/>
          </a:xfrm>
        </p:grpSpPr>
        <p:sp>
          <p:nvSpPr>
            <p:cNvPr id="1704" name="AutoShape 27"/>
            <p:cNvSpPr/>
            <p:nvPr/>
          </p:nvSpPr>
          <p:spPr>
            <a:xfrm>
              <a:off x="4427640" y="4986360"/>
              <a:ext cx="2808360" cy="1006560"/>
            </a:xfrm>
            <a:prstGeom prst="wedgeRoundRectCallout">
              <a:avLst>
                <a:gd name="adj1" fmla="val 60912"/>
                <a:gd name="adj2" fmla="val -149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有些问题通过画图，解决起来更直观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705" name="图片 21541" descr="未标题-7"/>
            <p:cNvPicPr/>
            <p:nvPr/>
          </p:nvPicPr>
          <p:blipFill>
            <a:blip r:embed="rId2"/>
            <a:stretch/>
          </p:blipFill>
          <p:spPr>
            <a:xfrm>
              <a:off x="7196040" y="4913280"/>
              <a:ext cx="1376640" cy="175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6" name="组合 21542"/>
          <p:cNvGrpSpPr/>
          <p:nvPr/>
        </p:nvGrpSpPr>
        <p:grpSpPr>
          <a:xfrm>
            <a:off x="34920" y="4437000"/>
            <a:ext cx="4319640" cy="1871640"/>
            <a:chOff x="34920" y="4437000"/>
            <a:chExt cx="4319640" cy="1871640"/>
          </a:xfrm>
        </p:grpSpPr>
        <p:sp>
          <p:nvSpPr>
            <p:cNvPr id="1707" name="AutoShape 27"/>
            <p:cNvSpPr/>
            <p:nvPr/>
          </p:nvSpPr>
          <p:spPr>
            <a:xfrm>
              <a:off x="1619280" y="4437000"/>
              <a:ext cx="2735280" cy="1297080"/>
            </a:xfrm>
            <a:prstGeom prst="wedgeRoundRectCallout">
              <a:avLst>
                <a:gd name="adj1" fmla="val -59458"/>
                <a:gd name="adj2" fmla="val -4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从图上可以看出，这些分数不断加下去，总和就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。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708" name="图片 21544" descr="未标题-8"/>
            <p:cNvPicPr/>
            <p:nvPr/>
          </p:nvPicPr>
          <p:blipFill>
            <a:blip r:embed="rId3"/>
            <a:stretch/>
          </p:blipFill>
          <p:spPr>
            <a:xfrm>
              <a:off x="34920" y="4579920"/>
              <a:ext cx="1519200" cy="172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09" name="图片 21545" descr="未标题-3"/>
          <p:cNvPicPr/>
          <p:nvPr/>
        </p:nvPicPr>
        <p:blipFill>
          <a:blip r:embed="rId4"/>
          <a:stretch/>
        </p:blipFill>
        <p:spPr>
          <a:xfrm>
            <a:off x="3276720" y="3860640"/>
            <a:ext cx="5868720" cy="876600"/>
          </a:xfrm>
          <a:prstGeom prst="rect">
            <a:avLst/>
          </a:prstGeom>
          <a:ln w="0">
            <a:noFill/>
          </a:ln>
        </p:spPr>
      </p:pic>
      <p:pic>
        <p:nvPicPr>
          <p:cNvPr id="1710" name="图片 21546" descr="未标题-2"/>
          <p:cNvPicPr/>
          <p:nvPr/>
        </p:nvPicPr>
        <p:blipFill>
          <a:blip r:embed="rId5"/>
          <a:stretch/>
        </p:blipFill>
        <p:spPr>
          <a:xfrm>
            <a:off x="5435640" y="2276640"/>
            <a:ext cx="2016000" cy="1784160"/>
          </a:xfrm>
          <a:prstGeom prst="rect">
            <a:avLst/>
          </a:prstGeom>
          <a:ln w="0">
            <a:noFill/>
          </a:ln>
        </p:spPr>
      </p:pic>
      <p:pic>
        <p:nvPicPr>
          <p:cNvPr id="1711" name="Picture 20" descr="男天使副本"/>
          <p:cNvPicPr/>
          <p:nvPr/>
        </p:nvPicPr>
        <p:blipFill>
          <a:blip r:embed="rId6"/>
          <a:stretch/>
        </p:blipFill>
        <p:spPr>
          <a:xfrm>
            <a:off x="0" y="148608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1712" name="AutoShape 27"/>
          <p:cNvSpPr/>
          <p:nvPr/>
        </p:nvSpPr>
        <p:spPr>
          <a:xfrm>
            <a:off x="1403280" y="1644480"/>
            <a:ext cx="1081080" cy="560520"/>
          </a:xfrm>
          <a:prstGeom prst="wedgeRoundRectCallout">
            <a:avLst>
              <a:gd name="adj1" fmla="val -67032"/>
              <a:gd name="adj2" fmla="val 5113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"/>
                            </p:stCondLst>
                            <p:childTnLst>
                              <p:par>
                                <p:cTn id="9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宋体"/>
              </a:rPr>
              <a:t>二、探究新知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矩形 9"/>
          <p:cNvSpPr/>
          <p:nvPr/>
        </p:nvSpPr>
        <p:spPr>
          <a:xfrm>
            <a:off x="1716120" y="3529080"/>
            <a:ext cx="399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6" name="矩形 11"/>
          <p:cNvSpPr/>
          <p:nvPr/>
        </p:nvSpPr>
        <p:spPr>
          <a:xfrm>
            <a:off x="1884240" y="4465800"/>
            <a:ext cx="54144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7" name="矩形 15"/>
          <p:cNvSpPr/>
          <p:nvPr/>
        </p:nvSpPr>
        <p:spPr>
          <a:xfrm>
            <a:off x="1908000" y="5300640"/>
            <a:ext cx="648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8" name="矩形 8"/>
          <p:cNvSpPr/>
          <p:nvPr/>
        </p:nvSpPr>
        <p:spPr>
          <a:xfrm>
            <a:off x="1692360" y="2637000"/>
            <a:ext cx="63180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19" name="组合 22534"/>
          <p:cNvGrpSpPr/>
          <p:nvPr/>
        </p:nvGrpSpPr>
        <p:grpSpPr>
          <a:xfrm>
            <a:off x="2340000" y="1341360"/>
            <a:ext cx="5094000" cy="1143000"/>
            <a:chOff x="2340000" y="1341360"/>
            <a:chExt cx="5094000" cy="1143000"/>
          </a:xfrm>
        </p:grpSpPr>
        <p:sp>
          <p:nvSpPr>
            <p:cNvPr id="1720" name="文本框 22535"/>
            <p:cNvSpPr/>
            <p:nvPr/>
          </p:nvSpPr>
          <p:spPr>
            <a:xfrm>
              <a:off x="5575320" y="13413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21" name="组合 22536"/>
            <p:cNvGrpSpPr/>
            <p:nvPr/>
          </p:nvGrpSpPr>
          <p:grpSpPr>
            <a:xfrm>
              <a:off x="2340000" y="1341360"/>
              <a:ext cx="503280" cy="1073880"/>
              <a:chOff x="2340000" y="1341360"/>
              <a:chExt cx="503280" cy="1073880"/>
            </a:xfrm>
          </p:grpSpPr>
          <p:sp>
            <p:nvSpPr>
              <p:cNvPr id="1722" name="文本框 22537"/>
              <p:cNvSpPr/>
              <p:nvPr/>
            </p:nvSpPr>
            <p:spPr>
              <a:xfrm>
                <a:off x="2340000" y="1341360"/>
                <a:ext cx="5032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3" name="文本框 22538"/>
              <p:cNvSpPr/>
              <p:nvPr/>
            </p:nvSpPr>
            <p:spPr>
              <a:xfrm>
                <a:off x="2340000" y="1773360"/>
                <a:ext cx="358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4" name="直接连接符 22539"/>
              <p:cNvSpPr/>
              <p:nvPr/>
            </p:nvSpPr>
            <p:spPr>
              <a:xfrm>
                <a:off x="2363400" y="1909800"/>
                <a:ext cx="35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25" name="文本框 22540"/>
            <p:cNvSpPr/>
            <p:nvPr/>
          </p:nvSpPr>
          <p:spPr>
            <a:xfrm>
              <a:off x="6548400" y="134136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26" name="组合 22541"/>
            <p:cNvGrpSpPr/>
            <p:nvPr/>
          </p:nvGrpSpPr>
          <p:grpSpPr>
            <a:xfrm>
              <a:off x="3097440" y="1352520"/>
              <a:ext cx="504720" cy="1073880"/>
              <a:chOff x="3097440" y="1352520"/>
              <a:chExt cx="504720" cy="1073880"/>
            </a:xfrm>
          </p:grpSpPr>
          <p:sp>
            <p:nvSpPr>
              <p:cNvPr id="1727" name="文本框 22542"/>
              <p:cNvSpPr/>
              <p:nvPr/>
            </p:nvSpPr>
            <p:spPr>
              <a:xfrm>
                <a:off x="3097440" y="13525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8" name="文本框 22543"/>
              <p:cNvSpPr/>
              <p:nvPr/>
            </p:nvSpPr>
            <p:spPr>
              <a:xfrm>
                <a:off x="3097440" y="178452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9" name="直接连接符 22544"/>
              <p:cNvSpPr/>
              <p:nvPr/>
            </p:nvSpPr>
            <p:spPr>
              <a:xfrm>
                <a:off x="3120840" y="19209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30" name="组合 22545"/>
            <p:cNvGrpSpPr/>
            <p:nvPr/>
          </p:nvGrpSpPr>
          <p:grpSpPr>
            <a:xfrm>
              <a:off x="3848040" y="1347840"/>
              <a:ext cx="505080" cy="1073880"/>
              <a:chOff x="3848040" y="1347840"/>
              <a:chExt cx="505080" cy="1073880"/>
            </a:xfrm>
          </p:grpSpPr>
          <p:sp>
            <p:nvSpPr>
              <p:cNvPr id="1731" name="文本框 22546"/>
              <p:cNvSpPr/>
              <p:nvPr/>
            </p:nvSpPr>
            <p:spPr>
              <a:xfrm>
                <a:off x="3848040" y="134784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2" name="文本框 22547"/>
              <p:cNvSpPr/>
              <p:nvPr/>
            </p:nvSpPr>
            <p:spPr>
              <a:xfrm>
                <a:off x="3848040" y="177984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3" name="直接连接符 22548"/>
              <p:cNvSpPr/>
              <p:nvPr/>
            </p:nvSpPr>
            <p:spPr>
              <a:xfrm>
                <a:off x="3871800" y="1916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34" name="文本框 22549"/>
            <p:cNvSpPr/>
            <p:nvPr/>
          </p:nvSpPr>
          <p:spPr>
            <a:xfrm>
              <a:off x="4711680" y="134136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35" name="组合 22550"/>
            <p:cNvGrpSpPr/>
            <p:nvPr/>
          </p:nvGrpSpPr>
          <p:grpSpPr>
            <a:xfrm>
              <a:off x="2629080" y="1784160"/>
              <a:ext cx="4804920" cy="700200"/>
              <a:chOff x="2629080" y="1784160"/>
              <a:chExt cx="4804920" cy="700200"/>
            </a:xfrm>
          </p:grpSpPr>
          <p:sp>
            <p:nvSpPr>
              <p:cNvPr id="1736" name="文本框 22551"/>
              <p:cNvSpPr/>
              <p:nvPr/>
            </p:nvSpPr>
            <p:spPr>
              <a:xfrm>
                <a:off x="5431680" y="17841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7" name="直接连接符 22552"/>
              <p:cNvSpPr/>
              <p:nvPr/>
            </p:nvSpPr>
            <p:spPr>
              <a:xfrm>
                <a:off x="5515200" y="1928520"/>
                <a:ext cx="504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8" name="矩形 22553"/>
              <p:cNvSpPr/>
              <p:nvPr/>
            </p:nvSpPr>
            <p:spPr>
              <a:xfrm>
                <a:off x="2629080" y="18316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9" name="文本框 22554"/>
              <p:cNvSpPr/>
              <p:nvPr/>
            </p:nvSpPr>
            <p:spPr>
              <a:xfrm>
                <a:off x="6438960" y="17841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0" name="直接连接符 22555"/>
              <p:cNvSpPr/>
              <p:nvPr/>
            </p:nvSpPr>
            <p:spPr>
              <a:xfrm>
                <a:off x="6523200" y="192852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1" name="矩形 22556"/>
              <p:cNvSpPr/>
              <p:nvPr/>
            </p:nvSpPr>
            <p:spPr>
              <a:xfrm>
                <a:off x="3386160" y="18424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2" name="矩形 22557"/>
              <p:cNvSpPr/>
              <p:nvPr/>
            </p:nvSpPr>
            <p:spPr>
              <a:xfrm>
                <a:off x="5056200" y="18424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3" name="文本框 22558"/>
              <p:cNvSpPr/>
              <p:nvPr/>
            </p:nvSpPr>
            <p:spPr>
              <a:xfrm>
                <a:off x="4569840" y="1784160"/>
                <a:ext cx="7887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4" name="直接连接符 22559"/>
              <p:cNvSpPr/>
              <p:nvPr/>
            </p:nvSpPr>
            <p:spPr>
              <a:xfrm>
                <a:off x="4653720" y="1928520"/>
                <a:ext cx="503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5" name="矩形 22560"/>
              <p:cNvSpPr/>
              <p:nvPr/>
            </p:nvSpPr>
            <p:spPr>
              <a:xfrm>
                <a:off x="4167360" y="1842480"/>
                <a:ext cx="43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6" name="矩形 22561"/>
              <p:cNvSpPr/>
              <p:nvPr/>
            </p:nvSpPr>
            <p:spPr>
              <a:xfrm>
                <a:off x="6012720" y="183744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7" name="矩形 22562"/>
              <p:cNvSpPr/>
              <p:nvPr/>
            </p:nvSpPr>
            <p:spPr>
              <a:xfrm>
                <a:off x="7003080" y="1842480"/>
                <a:ext cx="43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3000" spc="-1" strike="noStrike" u="sng">
                    <a:solidFill>
                      <a:srgbClr val="000000"/>
                    </a:solidFill>
                    <a:uFillTx/>
                    <a:latin typeface="楷体_GB2312"/>
                    <a:ea typeface="楷体_GB2312"/>
                  </a:rPr>
                  <a:t>＋ 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748" name="文本框 22563"/>
          <p:cNvSpPr/>
          <p:nvPr/>
        </p:nvSpPr>
        <p:spPr>
          <a:xfrm>
            <a:off x="7380360" y="1535040"/>
            <a:ext cx="176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49" name="矩形 22564"/>
          <p:cNvSpPr/>
          <p:nvPr/>
        </p:nvSpPr>
        <p:spPr>
          <a:xfrm>
            <a:off x="7812000" y="1606320"/>
            <a:ext cx="86364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3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1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50" name="组合 22565"/>
          <p:cNvGrpSpPr/>
          <p:nvPr/>
        </p:nvGrpSpPr>
        <p:grpSpPr>
          <a:xfrm>
            <a:off x="831960" y="2535120"/>
            <a:ext cx="1800000" cy="1073880"/>
            <a:chOff x="831960" y="2535120"/>
            <a:chExt cx="1800000" cy="1073880"/>
          </a:xfrm>
        </p:grpSpPr>
        <p:grpSp>
          <p:nvGrpSpPr>
            <p:cNvPr id="1751" name="组合 22566"/>
            <p:cNvGrpSpPr/>
            <p:nvPr/>
          </p:nvGrpSpPr>
          <p:grpSpPr>
            <a:xfrm>
              <a:off x="831960" y="2535120"/>
              <a:ext cx="504720" cy="1073880"/>
              <a:chOff x="831960" y="2535120"/>
              <a:chExt cx="504720" cy="1073880"/>
            </a:xfrm>
          </p:grpSpPr>
          <p:sp>
            <p:nvSpPr>
              <p:cNvPr id="1752" name="文本框 22567"/>
              <p:cNvSpPr/>
              <p:nvPr/>
            </p:nvSpPr>
            <p:spPr>
              <a:xfrm>
                <a:off x="831960" y="25351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3" name="文本框 22568"/>
              <p:cNvSpPr/>
              <p:nvPr/>
            </p:nvSpPr>
            <p:spPr>
              <a:xfrm>
                <a:off x="831960" y="296712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4" name="直接连接符 22569"/>
              <p:cNvSpPr/>
              <p:nvPr/>
            </p:nvSpPr>
            <p:spPr>
              <a:xfrm>
                <a:off x="855360" y="31035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55" name="矩形 22570"/>
            <p:cNvSpPr/>
            <p:nvPr/>
          </p:nvSpPr>
          <p:spPr>
            <a:xfrm>
              <a:off x="1181160" y="275076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56" name="组合 22571"/>
            <p:cNvGrpSpPr/>
            <p:nvPr/>
          </p:nvGrpSpPr>
          <p:grpSpPr>
            <a:xfrm>
              <a:off x="1623960" y="2535120"/>
              <a:ext cx="504720" cy="1073880"/>
              <a:chOff x="1623960" y="2535120"/>
              <a:chExt cx="504720" cy="1073880"/>
            </a:xfrm>
          </p:grpSpPr>
          <p:sp>
            <p:nvSpPr>
              <p:cNvPr id="1757" name="文本框 22572"/>
              <p:cNvSpPr/>
              <p:nvPr/>
            </p:nvSpPr>
            <p:spPr>
              <a:xfrm>
                <a:off x="1623960" y="25351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8" name="文本框 22573"/>
              <p:cNvSpPr/>
              <p:nvPr/>
            </p:nvSpPr>
            <p:spPr>
              <a:xfrm>
                <a:off x="1623960" y="296712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9" name="直接连接符 22574"/>
              <p:cNvSpPr/>
              <p:nvPr/>
            </p:nvSpPr>
            <p:spPr>
              <a:xfrm>
                <a:off x="1647360" y="31035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60" name="矩形 22575"/>
            <p:cNvSpPr/>
            <p:nvPr/>
          </p:nvSpPr>
          <p:spPr>
            <a:xfrm>
              <a:off x="1984320" y="271296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61" name="组合 22576"/>
          <p:cNvGrpSpPr/>
          <p:nvPr/>
        </p:nvGrpSpPr>
        <p:grpSpPr>
          <a:xfrm>
            <a:off x="2487600" y="2535120"/>
            <a:ext cx="504720" cy="1073880"/>
            <a:chOff x="2487600" y="2535120"/>
            <a:chExt cx="504720" cy="1073880"/>
          </a:xfrm>
        </p:grpSpPr>
        <p:sp>
          <p:nvSpPr>
            <p:cNvPr id="1762" name="文本框 22577"/>
            <p:cNvSpPr/>
            <p:nvPr/>
          </p:nvSpPr>
          <p:spPr>
            <a:xfrm>
              <a:off x="2487600" y="253512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3" name="文本框 22578"/>
            <p:cNvSpPr/>
            <p:nvPr/>
          </p:nvSpPr>
          <p:spPr>
            <a:xfrm>
              <a:off x="2487600" y="2967120"/>
              <a:ext cx="360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64" name="直接连接符 22579"/>
            <p:cNvSpPr/>
            <p:nvPr/>
          </p:nvSpPr>
          <p:spPr>
            <a:xfrm>
              <a:off x="2511000" y="310356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65" name="组合 22580"/>
          <p:cNvGrpSpPr/>
          <p:nvPr/>
        </p:nvGrpSpPr>
        <p:grpSpPr>
          <a:xfrm>
            <a:off x="826920" y="3500280"/>
            <a:ext cx="1800000" cy="1073880"/>
            <a:chOff x="826920" y="3500280"/>
            <a:chExt cx="1800000" cy="1073880"/>
          </a:xfrm>
        </p:grpSpPr>
        <p:grpSp>
          <p:nvGrpSpPr>
            <p:cNvPr id="1766" name="组合 22581"/>
            <p:cNvGrpSpPr/>
            <p:nvPr/>
          </p:nvGrpSpPr>
          <p:grpSpPr>
            <a:xfrm>
              <a:off x="826920" y="3500280"/>
              <a:ext cx="504720" cy="1073880"/>
              <a:chOff x="826920" y="3500280"/>
              <a:chExt cx="504720" cy="1073880"/>
            </a:xfrm>
          </p:grpSpPr>
          <p:sp>
            <p:nvSpPr>
              <p:cNvPr id="1767" name="文本框 22582"/>
              <p:cNvSpPr/>
              <p:nvPr/>
            </p:nvSpPr>
            <p:spPr>
              <a:xfrm>
                <a:off x="826920" y="3500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8" name="文本框 22583"/>
              <p:cNvSpPr/>
              <p:nvPr/>
            </p:nvSpPr>
            <p:spPr>
              <a:xfrm>
                <a:off x="826920" y="393228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9" name="直接连接符 22584"/>
              <p:cNvSpPr/>
              <p:nvPr/>
            </p:nvSpPr>
            <p:spPr>
              <a:xfrm>
                <a:off x="850320" y="4068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70" name="矩形 22585"/>
            <p:cNvSpPr/>
            <p:nvPr/>
          </p:nvSpPr>
          <p:spPr>
            <a:xfrm>
              <a:off x="1176120" y="3715920"/>
              <a:ext cx="6379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71" name="组合 22586"/>
            <p:cNvGrpSpPr/>
            <p:nvPr/>
          </p:nvGrpSpPr>
          <p:grpSpPr>
            <a:xfrm>
              <a:off x="1618920" y="3500280"/>
              <a:ext cx="504720" cy="1073880"/>
              <a:chOff x="1618920" y="3500280"/>
              <a:chExt cx="504720" cy="1073880"/>
            </a:xfrm>
          </p:grpSpPr>
          <p:sp>
            <p:nvSpPr>
              <p:cNvPr id="1772" name="文本框 22587"/>
              <p:cNvSpPr/>
              <p:nvPr/>
            </p:nvSpPr>
            <p:spPr>
              <a:xfrm>
                <a:off x="1618920" y="350028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3" name="文本框 22588"/>
              <p:cNvSpPr/>
              <p:nvPr/>
            </p:nvSpPr>
            <p:spPr>
              <a:xfrm>
                <a:off x="1618920" y="3932280"/>
                <a:ext cx="36000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74" name="直接连接符 22589"/>
              <p:cNvSpPr/>
              <p:nvPr/>
            </p:nvSpPr>
            <p:spPr>
              <a:xfrm>
                <a:off x="1642320" y="40687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775" name="矩形 22590"/>
            <p:cNvSpPr/>
            <p:nvPr/>
          </p:nvSpPr>
          <p:spPr>
            <a:xfrm>
              <a:off x="1979280" y="3677760"/>
              <a:ext cx="647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76" name="组合 22591"/>
          <p:cNvGrpSpPr/>
          <p:nvPr/>
        </p:nvGrpSpPr>
        <p:grpSpPr>
          <a:xfrm>
            <a:off x="2462040" y="3473280"/>
            <a:ext cx="505080" cy="1073880"/>
            <a:chOff x="2462040" y="3473280"/>
            <a:chExt cx="505080" cy="1073880"/>
          </a:xfrm>
        </p:grpSpPr>
        <p:sp>
          <p:nvSpPr>
            <p:cNvPr id="1777" name="文本框 22592"/>
            <p:cNvSpPr/>
            <p:nvPr/>
          </p:nvSpPr>
          <p:spPr>
            <a:xfrm>
              <a:off x="2462040" y="3473280"/>
              <a:ext cx="5050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8" name="文本框 22593"/>
            <p:cNvSpPr/>
            <p:nvPr/>
          </p:nvSpPr>
          <p:spPr>
            <a:xfrm>
              <a:off x="2462040" y="3905280"/>
              <a:ext cx="360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9" name="直接连接符 22594"/>
            <p:cNvSpPr/>
            <p:nvPr/>
          </p:nvSpPr>
          <p:spPr>
            <a:xfrm>
              <a:off x="2485800" y="40417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80" name="组合 22595"/>
          <p:cNvGrpSpPr/>
          <p:nvPr/>
        </p:nvGrpSpPr>
        <p:grpSpPr>
          <a:xfrm>
            <a:off x="826920" y="4336920"/>
            <a:ext cx="1511640" cy="1160640"/>
            <a:chOff x="826920" y="4336920"/>
            <a:chExt cx="1511640" cy="1160640"/>
          </a:xfrm>
        </p:grpSpPr>
        <p:sp>
          <p:nvSpPr>
            <p:cNvPr id="1781" name="矩形 22596"/>
            <p:cNvSpPr/>
            <p:nvPr/>
          </p:nvSpPr>
          <p:spPr>
            <a:xfrm>
              <a:off x="1116000" y="485568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82" name="组合 22597"/>
            <p:cNvGrpSpPr/>
            <p:nvPr/>
          </p:nvGrpSpPr>
          <p:grpSpPr>
            <a:xfrm>
              <a:off x="1547640" y="4365720"/>
              <a:ext cx="790920" cy="1065600"/>
              <a:chOff x="1547640" y="4365720"/>
              <a:chExt cx="790920" cy="1065600"/>
            </a:xfrm>
          </p:grpSpPr>
          <p:sp>
            <p:nvSpPr>
              <p:cNvPr id="1783" name="文本框 22598"/>
              <p:cNvSpPr/>
              <p:nvPr/>
            </p:nvSpPr>
            <p:spPr>
              <a:xfrm>
                <a:off x="1692360" y="4365720"/>
                <a:ext cx="5047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4" name="文本框 22599"/>
              <p:cNvSpPr/>
              <p:nvPr/>
            </p:nvSpPr>
            <p:spPr>
              <a:xfrm>
                <a:off x="1547640" y="4789440"/>
                <a:ext cx="7909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5" name="直接连接符 22600"/>
              <p:cNvSpPr/>
              <p:nvPr/>
            </p:nvSpPr>
            <p:spPr>
              <a:xfrm>
                <a:off x="1619280" y="494172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86" name="组合 22601"/>
            <p:cNvGrpSpPr/>
            <p:nvPr/>
          </p:nvGrpSpPr>
          <p:grpSpPr>
            <a:xfrm>
              <a:off x="826920" y="4336920"/>
              <a:ext cx="505080" cy="1073880"/>
              <a:chOff x="826920" y="4336920"/>
              <a:chExt cx="505080" cy="1073880"/>
            </a:xfrm>
          </p:grpSpPr>
          <p:sp>
            <p:nvSpPr>
              <p:cNvPr id="1787" name="文本框 22602"/>
              <p:cNvSpPr/>
              <p:nvPr/>
            </p:nvSpPr>
            <p:spPr>
              <a:xfrm>
                <a:off x="826920" y="4336920"/>
                <a:ext cx="50508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8" name="文本框 22603"/>
              <p:cNvSpPr/>
              <p:nvPr/>
            </p:nvSpPr>
            <p:spPr>
              <a:xfrm>
                <a:off x="826920" y="4768920"/>
                <a:ext cx="3603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89" name="直接连接符 22604"/>
              <p:cNvSpPr/>
              <p:nvPr/>
            </p:nvSpPr>
            <p:spPr>
              <a:xfrm>
                <a:off x="850680" y="49053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790" name="矩形 22605"/>
          <p:cNvSpPr/>
          <p:nvPr/>
        </p:nvSpPr>
        <p:spPr>
          <a:xfrm>
            <a:off x="2124000" y="456552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＝ 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91" name="组合 22606"/>
          <p:cNvGrpSpPr/>
          <p:nvPr/>
        </p:nvGrpSpPr>
        <p:grpSpPr>
          <a:xfrm>
            <a:off x="2535120" y="4340160"/>
            <a:ext cx="812520" cy="1068480"/>
            <a:chOff x="2535120" y="4340160"/>
            <a:chExt cx="812520" cy="1068480"/>
          </a:xfrm>
        </p:grpSpPr>
        <p:sp>
          <p:nvSpPr>
            <p:cNvPr id="1792" name="文本框 22607"/>
            <p:cNvSpPr/>
            <p:nvPr/>
          </p:nvSpPr>
          <p:spPr>
            <a:xfrm>
              <a:off x="2535120" y="4340160"/>
              <a:ext cx="67968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3" name="文本框 22608"/>
            <p:cNvSpPr/>
            <p:nvPr/>
          </p:nvSpPr>
          <p:spPr>
            <a:xfrm>
              <a:off x="2558520" y="4766760"/>
              <a:ext cx="789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4" name="直接连接符 22609"/>
            <p:cNvSpPr/>
            <p:nvPr/>
          </p:nvSpPr>
          <p:spPr>
            <a:xfrm>
              <a:off x="2596680" y="4940280"/>
              <a:ext cx="503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795" name="组合 22610"/>
          <p:cNvGrpSpPr/>
          <p:nvPr/>
        </p:nvGrpSpPr>
        <p:grpSpPr>
          <a:xfrm>
            <a:off x="826920" y="5229360"/>
            <a:ext cx="2065320" cy="1492200"/>
            <a:chOff x="826920" y="5229360"/>
            <a:chExt cx="2065320" cy="1492200"/>
          </a:xfrm>
        </p:grpSpPr>
        <p:sp>
          <p:nvSpPr>
            <p:cNvPr id="1796" name="文本框 22611"/>
            <p:cNvSpPr/>
            <p:nvPr/>
          </p:nvSpPr>
          <p:spPr>
            <a:xfrm>
              <a:off x="1884240" y="5229360"/>
              <a:ext cx="5047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7" name="文本框 22612"/>
            <p:cNvSpPr/>
            <p:nvPr/>
          </p:nvSpPr>
          <p:spPr>
            <a:xfrm>
              <a:off x="1739520" y="566136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2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8" name="直接连接符 22613"/>
            <p:cNvSpPr/>
            <p:nvPr/>
          </p:nvSpPr>
          <p:spPr>
            <a:xfrm>
              <a:off x="1822320" y="580572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99" name="矩形 22614"/>
            <p:cNvSpPr/>
            <p:nvPr/>
          </p:nvSpPr>
          <p:spPr>
            <a:xfrm>
              <a:off x="1306080" y="5708520"/>
              <a:ext cx="433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0" name="矩形 22615"/>
            <p:cNvSpPr/>
            <p:nvPr/>
          </p:nvSpPr>
          <p:spPr>
            <a:xfrm>
              <a:off x="2315880" y="542916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 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01" name="组合 22616"/>
            <p:cNvGrpSpPr/>
            <p:nvPr/>
          </p:nvGrpSpPr>
          <p:grpSpPr>
            <a:xfrm>
              <a:off x="826920" y="5258160"/>
              <a:ext cx="801720" cy="1073520"/>
              <a:chOff x="826920" y="5258160"/>
              <a:chExt cx="801720" cy="1073520"/>
            </a:xfrm>
          </p:grpSpPr>
          <p:sp>
            <p:nvSpPr>
              <p:cNvPr id="1802" name="文本框 22617"/>
              <p:cNvSpPr/>
              <p:nvPr/>
            </p:nvSpPr>
            <p:spPr>
              <a:xfrm>
                <a:off x="826920" y="5258160"/>
                <a:ext cx="68112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3" name="文本框 22618"/>
              <p:cNvSpPr/>
              <p:nvPr/>
            </p:nvSpPr>
            <p:spPr>
              <a:xfrm>
                <a:off x="838080" y="5689800"/>
                <a:ext cx="790560" cy="64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3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4" name="直接连接符 22619"/>
              <p:cNvSpPr/>
              <p:nvPr/>
            </p:nvSpPr>
            <p:spPr>
              <a:xfrm>
                <a:off x="941400" y="5815440"/>
                <a:ext cx="504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05" name="文本框 22620"/>
            <p:cNvSpPr/>
            <p:nvPr/>
          </p:nvSpPr>
          <p:spPr>
            <a:xfrm>
              <a:off x="950760" y="62643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806" name="文本框 22621"/>
          <p:cNvSpPr/>
          <p:nvPr/>
        </p:nvSpPr>
        <p:spPr>
          <a:xfrm>
            <a:off x="924480" y="6216480"/>
            <a:ext cx="473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07" name="组合 22622"/>
          <p:cNvGrpSpPr/>
          <p:nvPr/>
        </p:nvGrpSpPr>
        <p:grpSpPr>
          <a:xfrm>
            <a:off x="2771640" y="5229360"/>
            <a:ext cx="814320" cy="1051560"/>
            <a:chOff x="2771640" y="5229360"/>
            <a:chExt cx="814320" cy="1051560"/>
          </a:xfrm>
        </p:grpSpPr>
        <p:sp>
          <p:nvSpPr>
            <p:cNvPr id="1808" name="文本框 22623"/>
            <p:cNvSpPr/>
            <p:nvPr/>
          </p:nvSpPr>
          <p:spPr>
            <a:xfrm>
              <a:off x="2771640" y="5229360"/>
              <a:ext cx="6811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1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09" name="文本框 22624"/>
            <p:cNvSpPr/>
            <p:nvPr/>
          </p:nvSpPr>
          <p:spPr>
            <a:xfrm>
              <a:off x="2795400" y="5639040"/>
              <a:ext cx="7905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2</a:t>
              </a:r>
              <a:endParaRPr b="0" i="1" lang="en-US" sz="3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0" name="直接连接符 22625"/>
            <p:cNvSpPr/>
            <p:nvPr/>
          </p:nvSpPr>
          <p:spPr>
            <a:xfrm>
              <a:off x="2833560" y="5805720"/>
              <a:ext cx="504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11" name="图片 22626" descr="图片1"/>
          <p:cNvPicPr/>
          <p:nvPr/>
        </p:nvPicPr>
        <p:blipFill>
          <a:blip r:embed="rId1"/>
          <a:stretch/>
        </p:blipFill>
        <p:spPr>
          <a:xfrm>
            <a:off x="3924360" y="2201760"/>
            <a:ext cx="3487680" cy="3963960"/>
          </a:xfrm>
          <a:prstGeom prst="rect">
            <a:avLst/>
          </a:prstGeom>
          <a:ln w="0">
            <a:noFill/>
          </a:ln>
        </p:spPr>
      </p:pic>
      <p:grpSp>
        <p:nvGrpSpPr>
          <p:cNvPr id="1812" name="组合 22627"/>
          <p:cNvGrpSpPr/>
          <p:nvPr/>
        </p:nvGrpSpPr>
        <p:grpSpPr>
          <a:xfrm>
            <a:off x="6188040" y="4041720"/>
            <a:ext cx="502920" cy="810720"/>
            <a:chOff x="6188040" y="4041720"/>
            <a:chExt cx="502920" cy="810720"/>
          </a:xfrm>
        </p:grpSpPr>
        <p:sp>
          <p:nvSpPr>
            <p:cNvPr id="1813" name="文本框 22628"/>
            <p:cNvSpPr/>
            <p:nvPr/>
          </p:nvSpPr>
          <p:spPr>
            <a:xfrm>
              <a:off x="6194160" y="4392720"/>
              <a:ext cx="4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4" name="文本框 22629"/>
            <p:cNvSpPr/>
            <p:nvPr/>
          </p:nvSpPr>
          <p:spPr>
            <a:xfrm>
              <a:off x="6188040" y="4041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5" name="直接连接符 22630"/>
            <p:cNvSpPr/>
            <p:nvPr/>
          </p:nvSpPr>
          <p:spPr>
            <a:xfrm>
              <a:off x="6203520" y="4453560"/>
              <a:ext cx="282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16" name="组合 22631"/>
          <p:cNvGrpSpPr/>
          <p:nvPr/>
        </p:nvGrpSpPr>
        <p:grpSpPr>
          <a:xfrm>
            <a:off x="4703760" y="4678200"/>
            <a:ext cx="501120" cy="810720"/>
            <a:chOff x="4703760" y="4678200"/>
            <a:chExt cx="501120" cy="810720"/>
          </a:xfrm>
        </p:grpSpPr>
        <p:sp>
          <p:nvSpPr>
            <p:cNvPr id="1817" name="文本框 22632"/>
            <p:cNvSpPr/>
            <p:nvPr/>
          </p:nvSpPr>
          <p:spPr>
            <a:xfrm>
              <a:off x="4709880" y="5029200"/>
              <a:ext cx="49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8" name="文本框 22633"/>
            <p:cNvSpPr/>
            <p:nvPr/>
          </p:nvSpPr>
          <p:spPr>
            <a:xfrm>
              <a:off x="4703760" y="4678200"/>
              <a:ext cx="35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9" name="直接连接符 22634"/>
            <p:cNvSpPr/>
            <p:nvPr/>
          </p:nvSpPr>
          <p:spPr>
            <a:xfrm>
              <a:off x="4719240" y="5090040"/>
              <a:ext cx="281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0" name="组合 22635"/>
          <p:cNvGrpSpPr/>
          <p:nvPr/>
        </p:nvGrpSpPr>
        <p:grpSpPr>
          <a:xfrm>
            <a:off x="4773600" y="2909880"/>
            <a:ext cx="495360" cy="808920"/>
            <a:chOff x="4773600" y="2909880"/>
            <a:chExt cx="495360" cy="808920"/>
          </a:xfrm>
        </p:grpSpPr>
        <p:sp>
          <p:nvSpPr>
            <p:cNvPr id="1821" name="文本框 22636"/>
            <p:cNvSpPr/>
            <p:nvPr/>
          </p:nvSpPr>
          <p:spPr>
            <a:xfrm>
              <a:off x="4773600" y="325908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2" name="文本框 22637"/>
            <p:cNvSpPr/>
            <p:nvPr/>
          </p:nvSpPr>
          <p:spPr>
            <a:xfrm>
              <a:off x="4860720" y="2909880"/>
              <a:ext cx="3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3" name="直接连接符 22638"/>
            <p:cNvSpPr/>
            <p:nvPr/>
          </p:nvSpPr>
          <p:spPr>
            <a:xfrm>
              <a:off x="4838760" y="3321360"/>
              <a:ext cx="353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4" name="组合 22639"/>
          <p:cNvGrpSpPr/>
          <p:nvPr/>
        </p:nvGrpSpPr>
        <p:grpSpPr>
          <a:xfrm>
            <a:off x="4376880" y="3548160"/>
            <a:ext cx="502560" cy="808920"/>
            <a:chOff x="4376880" y="3548160"/>
            <a:chExt cx="502560" cy="808920"/>
          </a:xfrm>
        </p:grpSpPr>
        <p:sp>
          <p:nvSpPr>
            <p:cNvPr id="1825" name="文本框 22640"/>
            <p:cNvSpPr/>
            <p:nvPr/>
          </p:nvSpPr>
          <p:spPr>
            <a:xfrm>
              <a:off x="4383000" y="3897360"/>
              <a:ext cx="49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6" name="文本框 22641"/>
            <p:cNvSpPr/>
            <p:nvPr/>
          </p:nvSpPr>
          <p:spPr>
            <a:xfrm>
              <a:off x="4376880" y="3548160"/>
              <a:ext cx="35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7" name="直接连接符 22642"/>
            <p:cNvSpPr/>
            <p:nvPr/>
          </p:nvSpPr>
          <p:spPr>
            <a:xfrm>
              <a:off x="4392360" y="3960000"/>
              <a:ext cx="282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28" name="组合 22643"/>
          <p:cNvGrpSpPr/>
          <p:nvPr/>
        </p:nvGrpSpPr>
        <p:grpSpPr>
          <a:xfrm>
            <a:off x="4948200" y="2046240"/>
            <a:ext cx="918720" cy="808920"/>
            <a:chOff x="4948200" y="2046240"/>
            <a:chExt cx="918720" cy="808920"/>
          </a:xfrm>
        </p:grpSpPr>
        <p:sp>
          <p:nvSpPr>
            <p:cNvPr id="1829" name="矩形 22644"/>
            <p:cNvSpPr/>
            <p:nvPr/>
          </p:nvSpPr>
          <p:spPr>
            <a:xfrm>
              <a:off x="5372640" y="2257920"/>
              <a:ext cx="49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…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30" name="组合 22645"/>
            <p:cNvGrpSpPr/>
            <p:nvPr/>
          </p:nvGrpSpPr>
          <p:grpSpPr>
            <a:xfrm>
              <a:off x="4948200" y="2046240"/>
              <a:ext cx="496080" cy="808920"/>
              <a:chOff x="4948200" y="2046240"/>
              <a:chExt cx="496080" cy="808920"/>
            </a:xfrm>
          </p:grpSpPr>
          <p:sp>
            <p:nvSpPr>
              <p:cNvPr id="1831" name="文本框 22646"/>
              <p:cNvSpPr/>
              <p:nvPr/>
            </p:nvSpPr>
            <p:spPr>
              <a:xfrm>
                <a:off x="4948200" y="2395440"/>
                <a:ext cx="4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2" name="文本框 22647"/>
              <p:cNvSpPr/>
              <p:nvPr/>
            </p:nvSpPr>
            <p:spPr>
              <a:xfrm>
                <a:off x="5035320" y="2046240"/>
                <a:ext cx="35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3" name="直接连接符 22648"/>
              <p:cNvSpPr/>
              <p:nvPr/>
            </p:nvSpPr>
            <p:spPr>
              <a:xfrm>
                <a:off x="5013360" y="2457720"/>
                <a:ext cx="35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1834" name="Picture 7" descr=""/>
          <p:cNvPicPr/>
          <p:nvPr/>
        </p:nvPicPr>
        <p:blipFill>
          <a:blip r:embed="rId2"/>
          <a:stretch/>
        </p:blipFill>
        <p:spPr>
          <a:xfrm>
            <a:off x="3780000" y="2565360"/>
            <a:ext cx="3622680" cy="367020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9" descr=""/>
          <p:cNvPicPr/>
          <p:nvPr/>
        </p:nvPicPr>
        <p:blipFill>
          <a:blip r:embed="rId3"/>
          <a:stretch/>
        </p:blipFill>
        <p:spPr>
          <a:xfrm>
            <a:off x="3780000" y="2687760"/>
            <a:ext cx="3763800" cy="3533760"/>
          </a:xfrm>
          <a:prstGeom prst="rect">
            <a:avLst/>
          </a:prstGeom>
          <a:ln w="0">
            <a:noFill/>
          </a:ln>
        </p:spPr>
      </p:pic>
      <p:grpSp>
        <p:nvGrpSpPr>
          <p:cNvPr id="1836" name="组合 22651"/>
          <p:cNvGrpSpPr/>
          <p:nvPr/>
        </p:nvGrpSpPr>
        <p:grpSpPr>
          <a:xfrm>
            <a:off x="4500720" y="4221000"/>
            <a:ext cx="510480" cy="815040"/>
            <a:chOff x="4500720" y="4221000"/>
            <a:chExt cx="510480" cy="815040"/>
          </a:xfrm>
        </p:grpSpPr>
        <p:sp>
          <p:nvSpPr>
            <p:cNvPr id="1837" name="文本框 22652"/>
            <p:cNvSpPr/>
            <p:nvPr/>
          </p:nvSpPr>
          <p:spPr>
            <a:xfrm>
              <a:off x="4506840" y="457632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38" name="文本框 22653"/>
            <p:cNvSpPr/>
            <p:nvPr/>
          </p:nvSpPr>
          <p:spPr>
            <a:xfrm>
              <a:off x="4500720" y="42210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39" name="直接连接符 22654"/>
            <p:cNvSpPr/>
            <p:nvPr/>
          </p:nvSpPr>
          <p:spPr>
            <a:xfrm>
              <a:off x="4516200" y="464004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40" name="Picture 2" descr=""/>
          <p:cNvPicPr/>
          <p:nvPr/>
        </p:nvPicPr>
        <p:blipFill>
          <a:blip r:embed="rId4"/>
          <a:srcRect l="0" t="0" r="1435" b="0"/>
          <a:stretch/>
        </p:blipFill>
        <p:spPr>
          <a:xfrm>
            <a:off x="3876840" y="2695680"/>
            <a:ext cx="3574800" cy="3611520"/>
          </a:xfrm>
          <a:prstGeom prst="rect">
            <a:avLst/>
          </a:prstGeom>
          <a:ln w="0">
            <a:noFill/>
          </a:ln>
        </p:spPr>
      </p:pic>
      <p:grpSp>
        <p:nvGrpSpPr>
          <p:cNvPr id="1841" name="组合 22656"/>
          <p:cNvGrpSpPr/>
          <p:nvPr/>
        </p:nvGrpSpPr>
        <p:grpSpPr>
          <a:xfrm>
            <a:off x="6084720" y="4149720"/>
            <a:ext cx="511200" cy="815040"/>
            <a:chOff x="6084720" y="4149720"/>
            <a:chExt cx="511200" cy="815040"/>
          </a:xfrm>
        </p:grpSpPr>
        <p:sp>
          <p:nvSpPr>
            <p:cNvPr id="1842" name="文本框 22657"/>
            <p:cNvSpPr/>
            <p:nvPr/>
          </p:nvSpPr>
          <p:spPr>
            <a:xfrm>
              <a:off x="6091200" y="4505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3" name="文本框 22658"/>
            <p:cNvSpPr/>
            <p:nvPr/>
          </p:nvSpPr>
          <p:spPr>
            <a:xfrm>
              <a:off x="6084720" y="4149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4" name="直接连接符 22659"/>
            <p:cNvSpPr/>
            <p:nvPr/>
          </p:nvSpPr>
          <p:spPr>
            <a:xfrm>
              <a:off x="6100560" y="45687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845" name="组合 22660"/>
          <p:cNvGrpSpPr/>
          <p:nvPr/>
        </p:nvGrpSpPr>
        <p:grpSpPr>
          <a:xfrm>
            <a:off x="4716360" y="3213000"/>
            <a:ext cx="505080" cy="815040"/>
            <a:chOff x="4716360" y="3213000"/>
            <a:chExt cx="505080" cy="815040"/>
          </a:xfrm>
        </p:grpSpPr>
        <p:sp>
          <p:nvSpPr>
            <p:cNvPr id="1846" name="文本框 22661"/>
            <p:cNvSpPr/>
            <p:nvPr/>
          </p:nvSpPr>
          <p:spPr>
            <a:xfrm>
              <a:off x="4716360" y="35683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7" name="文本框 22662"/>
            <p:cNvSpPr/>
            <p:nvPr/>
          </p:nvSpPr>
          <p:spPr>
            <a:xfrm>
              <a:off x="4724280" y="32130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48" name="直接连接符 22663"/>
            <p:cNvSpPr/>
            <p:nvPr/>
          </p:nvSpPr>
          <p:spPr>
            <a:xfrm>
              <a:off x="4783320" y="3632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49" name="Picture 16" descr=""/>
          <p:cNvPicPr/>
          <p:nvPr/>
        </p:nvPicPr>
        <p:blipFill>
          <a:blip r:embed="rId5"/>
          <a:stretch/>
        </p:blipFill>
        <p:spPr>
          <a:xfrm>
            <a:off x="3838680" y="2505240"/>
            <a:ext cx="3700440" cy="3851280"/>
          </a:xfrm>
          <a:prstGeom prst="rect">
            <a:avLst/>
          </a:prstGeom>
          <a:ln w="0">
            <a:noFill/>
          </a:ln>
        </p:spPr>
      </p:pic>
      <p:grpSp>
        <p:nvGrpSpPr>
          <p:cNvPr id="1850" name="组合 22665"/>
          <p:cNvGrpSpPr/>
          <p:nvPr/>
        </p:nvGrpSpPr>
        <p:grpSpPr>
          <a:xfrm>
            <a:off x="4788000" y="3068640"/>
            <a:ext cx="504720" cy="815040"/>
            <a:chOff x="4788000" y="3068640"/>
            <a:chExt cx="504720" cy="815040"/>
          </a:xfrm>
        </p:grpSpPr>
        <p:sp>
          <p:nvSpPr>
            <p:cNvPr id="1851" name="文本框 22666"/>
            <p:cNvSpPr/>
            <p:nvPr/>
          </p:nvSpPr>
          <p:spPr>
            <a:xfrm>
              <a:off x="4788000" y="342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52" name="文本框 22667"/>
            <p:cNvSpPr/>
            <p:nvPr/>
          </p:nvSpPr>
          <p:spPr>
            <a:xfrm>
              <a:off x="4795560" y="306864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53" name="直接连接符 22668"/>
            <p:cNvSpPr/>
            <p:nvPr/>
          </p:nvSpPr>
          <p:spPr>
            <a:xfrm>
              <a:off x="4854600" y="34876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54" name="Picture 26" descr=""/>
          <p:cNvPicPr/>
          <p:nvPr/>
        </p:nvPicPr>
        <p:blipFill>
          <a:blip r:embed="rId6"/>
          <a:stretch/>
        </p:blipFill>
        <p:spPr>
          <a:xfrm>
            <a:off x="3813120" y="2492280"/>
            <a:ext cx="3676680" cy="3792600"/>
          </a:xfrm>
          <a:prstGeom prst="rect">
            <a:avLst/>
          </a:prstGeom>
          <a:ln w="0">
            <a:noFill/>
          </a:ln>
        </p:spPr>
      </p:pic>
      <p:grpSp>
        <p:nvGrpSpPr>
          <p:cNvPr id="1855" name="组合 22670"/>
          <p:cNvGrpSpPr/>
          <p:nvPr/>
        </p:nvGrpSpPr>
        <p:grpSpPr>
          <a:xfrm>
            <a:off x="5003640" y="2852640"/>
            <a:ext cx="505080" cy="815040"/>
            <a:chOff x="5003640" y="2852640"/>
            <a:chExt cx="505080" cy="815040"/>
          </a:xfrm>
        </p:grpSpPr>
        <p:sp>
          <p:nvSpPr>
            <p:cNvPr id="1856" name="文本框 22671"/>
            <p:cNvSpPr/>
            <p:nvPr/>
          </p:nvSpPr>
          <p:spPr>
            <a:xfrm>
              <a:off x="5003640" y="32079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57" name="文本框 22672"/>
            <p:cNvSpPr/>
            <p:nvPr/>
          </p:nvSpPr>
          <p:spPr>
            <a:xfrm>
              <a:off x="5011560" y="285264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58" name="直接连接符 22673"/>
            <p:cNvSpPr/>
            <p:nvPr/>
          </p:nvSpPr>
          <p:spPr>
            <a:xfrm>
              <a:off x="5070600" y="3271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59" name="Picture 34" descr=""/>
          <p:cNvPicPr/>
          <p:nvPr/>
        </p:nvPicPr>
        <p:blipFill>
          <a:blip r:embed="rId7"/>
          <a:srcRect l="5295" t="0" r="0" b="0"/>
          <a:stretch/>
        </p:blipFill>
        <p:spPr>
          <a:xfrm>
            <a:off x="3780000" y="2565360"/>
            <a:ext cx="3744720" cy="3807000"/>
          </a:xfrm>
          <a:prstGeom prst="rect">
            <a:avLst/>
          </a:prstGeom>
          <a:ln w="0">
            <a:noFill/>
          </a:ln>
        </p:spPr>
      </p:pic>
      <p:grpSp>
        <p:nvGrpSpPr>
          <p:cNvPr id="1860" name="组合 22675"/>
          <p:cNvGrpSpPr/>
          <p:nvPr/>
        </p:nvGrpSpPr>
        <p:grpSpPr>
          <a:xfrm>
            <a:off x="4859280" y="2924280"/>
            <a:ext cx="953640" cy="830160"/>
            <a:chOff x="4859280" y="2924280"/>
            <a:chExt cx="953640" cy="830160"/>
          </a:xfrm>
        </p:grpSpPr>
        <p:sp>
          <p:nvSpPr>
            <p:cNvPr id="1861" name="文本框 22676"/>
            <p:cNvSpPr/>
            <p:nvPr/>
          </p:nvSpPr>
          <p:spPr>
            <a:xfrm>
              <a:off x="4859280" y="3294720"/>
              <a:ext cx="72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2" name="文本框 22677"/>
            <p:cNvSpPr/>
            <p:nvPr/>
          </p:nvSpPr>
          <p:spPr>
            <a:xfrm>
              <a:off x="4878360" y="2924280"/>
              <a:ext cx="93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63" name="直接连接符 22678"/>
            <p:cNvSpPr/>
            <p:nvPr/>
          </p:nvSpPr>
          <p:spPr>
            <a:xfrm>
              <a:off x="4897080" y="3370320"/>
              <a:ext cx="506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1864" name="Picture 20" descr="男天使副本"/>
          <p:cNvPicPr/>
          <p:nvPr/>
        </p:nvPicPr>
        <p:blipFill>
          <a:blip r:embed="rId8"/>
          <a:stretch/>
        </p:blipFill>
        <p:spPr>
          <a:xfrm>
            <a:off x="0" y="148608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1865" name="AutoShape 27"/>
          <p:cNvSpPr/>
          <p:nvPr/>
        </p:nvSpPr>
        <p:spPr>
          <a:xfrm>
            <a:off x="1258920" y="1413000"/>
            <a:ext cx="1081080" cy="560160"/>
          </a:xfrm>
          <a:prstGeom prst="wedgeRoundRectCallout">
            <a:avLst>
              <a:gd name="adj1" fmla="val -50291"/>
              <a:gd name="adj2" fmla="val 7662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" dur="20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20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5" dur="2000"/>
                                        <p:tgtEl>
                                          <p:spTgt spid="1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3" dur="2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1" dur="2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6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1867" name="图片 23554" descr=""/>
          <p:cNvPicPr/>
          <p:nvPr/>
        </p:nvPicPr>
        <p:blipFill>
          <a:blip r:embed="rId2"/>
          <a:stretch/>
        </p:blipFill>
        <p:spPr>
          <a:xfrm>
            <a:off x="347760" y="285840"/>
            <a:ext cx="839160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矩形 45"/>
          <p:cNvSpPr/>
          <p:nvPr/>
        </p:nvSpPr>
        <p:spPr>
          <a:xfrm>
            <a:off x="5076720" y="6093000"/>
            <a:ext cx="62064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69" name="Picture 2" descr=""/>
          <p:cNvPicPr/>
          <p:nvPr/>
        </p:nvPicPr>
        <p:blipFill>
          <a:blip r:embed="rId1"/>
          <a:stretch/>
        </p:blipFill>
        <p:spPr>
          <a:xfrm>
            <a:off x="372960" y="4221000"/>
            <a:ext cx="8496360" cy="281160"/>
          </a:xfrm>
          <a:prstGeom prst="rect">
            <a:avLst/>
          </a:prstGeom>
          <a:ln w="0">
            <a:noFill/>
          </a:ln>
        </p:spPr>
      </p:pic>
      <p:pic>
        <p:nvPicPr>
          <p:cNvPr id="1870" name="Picture 9" descr=""/>
          <p:cNvPicPr/>
          <p:nvPr/>
        </p:nvPicPr>
        <p:blipFill>
          <a:blip r:embed="rId2"/>
          <a:stretch/>
        </p:blipFill>
        <p:spPr>
          <a:xfrm>
            <a:off x="363600" y="4226040"/>
            <a:ext cx="4289400" cy="268200"/>
          </a:xfrm>
          <a:prstGeom prst="rect">
            <a:avLst/>
          </a:prstGeom>
          <a:ln w="0">
            <a:noFill/>
          </a:ln>
        </p:spPr>
      </p:pic>
      <p:pic>
        <p:nvPicPr>
          <p:cNvPr id="1871" name="Picture 10" descr=""/>
          <p:cNvPicPr/>
          <p:nvPr/>
        </p:nvPicPr>
        <p:blipFill>
          <a:blip r:embed="rId3"/>
          <a:stretch/>
        </p:blipFill>
        <p:spPr>
          <a:xfrm>
            <a:off x="4594320" y="4237200"/>
            <a:ext cx="2163600" cy="242640"/>
          </a:xfrm>
          <a:prstGeom prst="rect">
            <a:avLst/>
          </a:prstGeom>
          <a:ln w="0">
            <a:noFill/>
          </a:ln>
        </p:spPr>
      </p:pic>
      <p:sp>
        <p:nvSpPr>
          <p:cNvPr id="1872" name="矩形 20"/>
          <p:cNvSpPr/>
          <p:nvPr/>
        </p:nvSpPr>
        <p:spPr>
          <a:xfrm>
            <a:off x="4500720" y="413388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73" name="Picture 11" descr=""/>
          <p:cNvPicPr/>
          <p:nvPr/>
        </p:nvPicPr>
        <p:blipFill>
          <a:blip r:embed="rId4"/>
          <a:stretch/>
        </p:blipFill>
        <p:spPr>
          <a:xfrm>
            <a:off x="385920" y="4230720"/>
            <a:ext cx="6379920" cy="249120"/>
          </a:xfrm>
          <a:prstGeom prst="rect">
            <a:avLst/>
          </a:prstGeom>
          <a:ln w="0">
            <a:noFill/>
          </a:ln>
        </p:spPr>
      </p:pic>
      <p:pic>
        <p:nvPicPr>
          <p:cNvPr id="1874" name="对象 24" descr=""/>
          <p:cNvPicPr/>
          <p:nvPr/>
        </p:nvPicPr>
        <p:blipFill>
          <a:blip r:embed="rId5"/>
          <a:stretch/>
        </p:blipFill>
        <p:spPr>
          <a:xfrm>
            <a:off x="4500720" y="4797360"/>
            <a:ext cx="215640" cy="241200"/>
          </a:xfrm>
          <a:prstGeom prst="rect">
            <a:avLst/>
          </a:prstGeom>
          <a:ln w="0">
            <a:noFill/>
          </a:ln>
        </p:spPr>
      </p:pic>
      <p:pic>
        <p:nvPicPr>
          <p:cNvPr id="1875" name="Picture 25" descr=""/>
          <p:cNvPicPr/>
          <p:nvPr/>
        </p:nvPicPr>
        <p:blipFill>
          <a:blip r:embed="rId6"/>
          <a:stretch/>
        </p:blipFill>
        <p:spPr>
          <a:xfrm>
            <a:off x="6715080" y="4240080"/>
            <a:ext cx="1087560" cy="235080"/>
          </a:xfrm>
          <a:prstGeom prst="rect">
            <a:avLst/>
          </a:prstGeom>
          <a:ln w="0">
            <a:noFill/>
          </a:ln>
        </p:spPr>
      </p:pic>
      <p:pic>
        <p:nvPicPr>
          <p:cNvPr id="1876" name="对象 28" descr=""/>
          <p:cNvPicPr/>
          <p:nvPr/>
        </p:nvPicPr>
        <p:blipFill>
          <a:blip r:embed="rId7"/>
          <a:stretch/>
        </p:blipFill>
        <p:spPr>
          <a:xfrm>
            <a:off x="6607080" y="4853160"/>
            <a:ext cx="216000" cy="241200"/>
          </a:xfrm>
          <a:prstGeom prst="rect">
            <a:avLst/>
          </a:prstGeom>
          <a:ln w="0">
            <a:noFill/>
          </a:ln>
        </p:spPr>
      </p:pic>
      <p:sp>
        <p:nvSpPr>
          <p:cNvPr id="1877" name="矩形 30"/>
          <p:cNvSpPr/>
          <p:nvPr/>
        </p:nvSpPr>
        <p:spPr>
          <a:xfrm>
            <a:off x="665496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78" name="对象 32" descr=""/>
          <p:cNvPicPr/>
          <p:nvPr/>
        </p:nvPicPr>
        <p:blipFill>
          <a:blip r:embed="rId8"/>
          <a:stretch/>
        </p:blipFill>
        <p:spPr>
          <a:xfrm>
            <a:off x="7380360" y="4843440"/>
            <a:ext cx="216000" cy="241200"/>
          </a:xfrm>
          <a:prstGeom prst="rect">
            <a:avLst/>
          </a:prstGeom>
          <a:ln w="0">
            <a:noFill/>
          </a:ln>
        </p:spPr>
      </p:pic>
      <p:pic>
        <p:nvPicPr>
          <p:cNvPr id="1879" name="Picture 49" descr=""/>
          <p:cNvPicPr/>
          <p:nvPr/>
        </p:nvPicPr>
        <p:blipFill>
          <a:blip r:embed="rId9"/>
          <a:stretch/>
        </p:blipFill>
        <p:spPr>
          <a:xfrm>
            <a:off x="7753320" y="4238640"/>
            <a:ext cx="579600" cy="235080"/>
          </a:xfrm>
          <a:prstGeom prst="rect">
            <a:avLst/>
          </a:prstGeom>
          <a:ln w="0">
            <a:noFill/>
          </a:ln>
        </p:spPr>
      </p:pic>
      <p:pic>
        <p:nvPicPr>
          <p:cNvPr id="1880" name="Picture 33" descr=""/>
          <p:cNvPicPr/>
          <p:nvPr/>
        </p:nvPicPr>
        <p:blipFill>
          <a:blip r:embed="rId10"/>
          <a:stretch/>
        </p:blipFill>
        <p:spPr>
          <a:xfrm>
            <a:off x="403200" y="4232160"/>
            <a:ext cx="7408800" cy="243000"/>
          </a:xfrm>
          <a:prstGeom prst="rect">
            <a:avLst/>
          </a:prstGeom>
          <a:ln w="0">
            <a:noFill/>
          </a:ln>
        </p:spPr>
      </p:pic>
      <p:sp>
        <p:nvSpPr>
          <p:cNvPr id="1881" name="矩形 36"/>
          <p:cNvSpPr/>
          <p:nvPr/>
        </p:nvSpPr>
        <p:spPr>
          <a:xfrm>
            <a:off x="7650000" y="4132440"/>
            <a:ext cx="206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82" name="Picture 50" descr=""/>
          <p:cNvPicPr/>
          <p:nvPr/>
        </p:nvPicPr>
        <p:blipFill>
          <a:blip r:embed="rId11"/>
          <a:stretch/>
        </p:blipFill>
        <p:spPr>
          <a:xfrm>
            <a:off x="411120" y="4254480"/>
            <a:ext cx="7921800" cy="222120"/>
          </a:xfrm>
          <a:prstGeom prst="rect">
            <a:avLst/>
          </a:prstGeom>
          <a:ln w="0">
            <a:noFill/>
          </a:ln>
        </p:spPr>
      </p:pic>
      <p:pic>
        <p:nvPicPr>
          <p:cNvPr id="1883" name="Picture 71" descr=""/>
          <p:cNvPicPr/>
          <p:nvPr/>
        </p:nvPicPr>
        <p:blipFill>
          <a:blip r:embed="rId12"/>
          <a:stretch/>
        </p:blipFill>
        <p:spPr>
          <a:xfrm>
            <a:off x="8278920" y="4230720"/>
            <a:ext cx="298440" cy="243000"/>
          </a:xfrm>
          <a:prstGeom prst="rect">
            <a:avLst/>
          </a:prstGeom>
          <a:ln w="0">
            <a:noFill/>
          </a:ln>
        </p:spPr>
      </p:pic>
      <p:pic>
        <p:nvPicPr>
          <p:cNvPr id="1884" name="对象 40" descr=""/>
          <p:cNvPicPr/>
          <p:nvPr/>
        </p:nvPicPr>
        <p:blipFill>
          <a:blip r:embed="rId13"/>
          <a:stretch/>
        </p:blipFill>
        <p:spPr>
          <a:xfrm>
            <a:off x="7864560" y="4853160"/>
            <a:ext cx="215640" cy="241200"/>
          </a:xfrm>
          <a:prstGeom prst="rect">
            <a:avLst/>
          </a:prstGeom>
          <a:ln w="0">
            <a:noFill/>
          </a:ln>
        </p:spPr>
      </p:pic>
      <p:sp>
        <p:nvSpPr>
          <p:cNvPr id="1885" name="矩形 42"/>
          <p:cNvSpPr/>
          <p:nvPr/>
        </p:nvSpPr>
        <p:spPr>
          <a:xfrm>
            <a:off x="822168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86" name="Picture 72" descr=""/>
          <p:cNvPicPr/>
          <p:nvPr/>
        </p:nvPicPr>
        <p:blipFill>
          <a:blip r:embed="rId14"/>
          <a:stretch/>
        </p:blipFill>
        <p:spPr>
          <a:xfrm>
            <a:off x="393840" y="4227480"/>
            <a:ext cx="8183520" cy="243000"/>
          </a:xfrm>
          <a:prstGeom prst="rect">
            <a:avLst/>
          </a:prstGeom>
          <a:ln w="0">
            <a:noFill/>
          </a:ln>
        </p:spPr>
      </p:pic>
      <p:pic>
        <p:nvPicPr>
          <p:cNvPr id="1887" name="Picture 87" descr=""/>
          <p:cNvPicPr/>
          <p:nvPr/>
        </p:nvPicPr>
        <p:blipFill>
          <a:blip r:embed="rId15"/>
          <a:stretch/>
        </p:blipFill>
        <p:spPr>
          <a:xfrm>
            <a:off x="8521560" y="4218120"/>
            <a:ext cx="177840" cy="258480"/>
          </a:xfrm>
          <a:prstGeom prst="rect">
            <a:avLst/>
          </a:prstGeom>
          <a:ln w="0">
            <a:noFill/>
          </a:ln>
        </p:spPr>
      </p:pic>
      <p:sp>
        <p:nvSpPr>
          <p:cNvPr id="1888" name="矩形 46"/>
          <p:cNvSpPr/>
          <p:nvPr/>
        </p:nvSpPr>
        <p:spPr>
          <a:xfrm>
            <a:off x="839628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89" name="Picture 88" descr=""/>
          <p:cNvPicPr/>
          <p:nvPr/>
        </p:nvPicPr>
        <p:blipFill>
          <a:blip r:embed="rId16"/>
          <a:stretch/>
        </p:blipFill>
        <p:spPr>
          <a:xfrm>
            <a:off x="398520" y="4226040"/>
            <a:ext cx="8307360" cy="250560"/>
          </a:xfrm>
          <a:prstGeom prst="rect">
            <a:avLst/>
          </a:prstGeom>
          <a:ln w="0">
            <a:noFill/>
          </a:ln>
        </p:spPr>
      </p:pic>
      <p:pic>
        <p:nvPicPr>
          <p:cNvPr id="1890" name="Picture 103" descr=""/>
          <p:cNvPicPr/>
          <p:nvPr/>
        </p:nvPicPr>
        <p:blipFill>
          <a:blip r:embed="rId17"/>
          <a:stretch/>
        </p:blipFill>
        <p:spPr>
          <a:xfrm>
            <a:off x="8658360" y="4230720"/>
            <a:ext cx="117360" cy="245880"/>
          </a:xfrm>
          <a:prstGeom prst="rect">
            <a:avLst/>
          </a:prstGeom>
          <a:ln w="0">
            <a:noFill/>
          </a:ln>
        </p:spPr>
      </p:pic>
      <p:sp>
        <p:nvSpPr>
          <p:cNvPr id="1891" name="矩形 50"/>
          <p:cNvSpPr/>
          <p:nvPr/>
        </p:nvSpPr>
        <p:spPr>
          <a:xfrm>
            <a:off x="8510760" y="4132440"/>
            <a:ext cx="206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92" name="Picture 104" descr=""/>
          <p:cNvPicPr/>
          <p:nvPr/>
        </p:nvPicPr>
        <p:blipFill>
          <a:blip r:embed="rId18"/>
          <a:stretch/>
        </p:blipFill>
        <p:spPr>
          <a:xfrm>
            <a:off x="395280" y="4237200"/>
            <a:ext cx="8380440" cy="223560"/>
          </a:xfrm>
          <a:prstGeom prst="rect">
            <a:avLst/>
          </a:prstGeom>
          <a:ln w="0">
            <a:noFill/>
          </a:ln>
        </p:spPr>
      </p:pic>
      <p:grpSp>
        <p:nvGrpSpPr>
          <p:cNvPr id="1893" name="组合 24603"/>
          <p:cNvGrpSpPr/>
          <p:nvPr/>
        </p:nvGrpSpPr>
        <p:grpSpPr>
          <a:xfrm>
            <a:off x="324000" y="2852640"/>
            <a:ext cx="1818720" cy="812160"/>
            <a:chOff x="324000" y="2852640"/>
            <a:chExt cx="1818720" cy="812160"/>
          </a:xfrm>
        </p:grpSpPr>
        <p:grpSp>
          <p:nvGrpSpPr>
            <p:cNvPr id="1894" name="组合 24604"/>
            <p:cNvGrpSpPr/>
            <p:nvPr/>
          </p:nvGrpSpPr>
          <p:grpSpPr>
            <a:xfrm>
              <a:off x="324000" y="2862360"/>
              <a:ext cx="504360" cy="802440"/>
              <a:chOff x="324000" y="2862360"/>
              <a:chExt cx="504360" cy="802440"/>
            </a:xfrm>
          </p:grpSpPr>
          <p:sp>
            <p:nvSpPr>
              <p:cNvPr id="1895" name="文本框 24605"/>
              <p:cNvSpPr/>
              <p:nvPr/>
            </p:nvSpPr>
            <p:spPr>
              <a:xfrm>
                <a:off x="324000" y="28623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96" name="文本框 24606"/>
              <p:cNvSpPr/>
              <p:nvPr/>
            </p:nvSpPr>
            <p:spPr>
              <a:xfrm>
                <a:off x="324000" y="320508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97" name="直接连接符 24607"/>
              <p:cNvSpPr/>
              <p:nvPr/>
            </p:nvSpPr>
            <p:spPr>
              <a:xfrm>
                <a:off x="342720" y="3281400"/>
                <a:ext cx="30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898" name="矩形 24608"/>
            <p:cNvSpPr/>
            <p:nvPr/>
          </p:nvSpPr>
          <p:spPr>
            <a:xfrm>
              <a:off x="621720" y="3013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99" name="矩形 24609"/>
            <p:cNvSpPr/>
            <p:nvPr/>
          </p:nvSpPr>
          <p:spPr>
            <a:xfrm>
              <a:off x="1238040" y="3004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00" name="组合 24610"/>
            <p:cNvGrpSpPr/>
            <p:nvPr/>
          </p:nvGrpSpPr>
          <p:grpSpPr>
            <a:xfrm>
              <a:off x="990360" y="2852640"/>
              <a:ext cx="504360" cy="802440"/>
              <a:chOff x="990360" y="2852640"/>
              <a:chExt cx="504360" cy="802440"/>
            </a:xfrm>
          </p:grpSpPr>
          <p:sp>
            <p:nvSpPr>
              <p:cNvPr id="1901" name="文本框 24611"/>
              <p:cNvSpPr/>
              <p:nvPr/>
            </p:nvSpPr>
            <p:spPr>
              <a:xfrm>
                <a:off x="990360" y="28526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2" name="文本框 24612"/>
              <p:cNvSpPr/>
              <p:nvPr/>
            </p:nvSpPr>
            <p:spPr>
              <a:xfrm>
                <a:off x="990360" y="319536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3" name="直接连接符 24613"/>
              <p:cNvSpPr/>
              <p:nvPr/>
            </p:nvSpPr>
            <p:spPr>
              <a:xfrm>
                <a:off x="1009080" y="3271680"/>
                <a:ext cx="30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04" name="组合 24614"/>
            <p:cNvGrpSpPr/>
            <p:nvPr/>
          </p:nvGrpSpPr>
          <p:grpSpPr>
            <a:xfrm>
              <a:off x="1638000" y="2852640"/>
              <a:ext cx="504720" cy="802440"/>
              <a:chOff x="1638000" y="2852640"/>
              <a:chExt cx="504720" cy="802440"/>
            </a:xfrm>
          </p:grpSpPr>
          <p:sp>
            <p:nvSpPr>
              <p:cNvPr id="1905" name="文本框 24615"/>
              <p:cNvSpPr/>
              <p:nvPr/>
            </p:nvSpPr>
            <p:spPr>
              <a:xfrm>
                <a:off x="1638000" y="2852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6" name="文本框 24616"/>
              <p:cNvSpPr/>
              <p:nvPr/>
            </p:nvSpPr>
            <p:spPr>
              <a:xfrm>
                <a:off x="1638000" y="3195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07" name="直接连接符 24617"/>
              <p:cNvSpPr/>
              <p:nvPr/>
            </p:nvSpPr>
            <p:spPr>
              <a:xfrm>
                <a:off x="1656720" y="327168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08" name="矩形 8"/>
          <p:cNvSpPr/>
          <p:nvPr/>
        </p:nvSpPr>
        <p:spPr>
          <a:xfrm>
            <a:off x="1649520" y="2852640"/>
            <a:ext cx="6188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09" name="组合 24619"/>
          <p:cNvGrpSpPr/>
          <p:nvPr/>
        </p:nvGrpSpPr>
        <p:grpSpPr>
          <a:xfrm>
            <a:off x="3059280" y="4475160"/>
            <a:ext cx="504720" cy="802440"/>
            <a:chOff x="3059280" y="4475160"/>
            <a:chExt cx="504720" cy="802440"/>
          </a:xfrm>
        </p:grpSpPr>
        <p:sp>
          <p:nvSpPr>
            <p:cNvPr id="1910" name="文本框 24620"/>
            <p:cNvSpPr/>
            <p:nvPr/>
          </p:nvSpPr>
          <p:spPr>
            <a:xfrm>
              <a:off x="3059280" y="4475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1" name="文本框 24621"/>
            <p:cNvSpPr/>
            <p:nvPr/>
          </p:nvSpPr>
          <p:spPr>
            <a:xfrm>
              <a:off x="3059280" y="48178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2" name="直接连接符 24622"/>
            <p:cNvSpPr/>
            <p:nvPr/>
          </p:nvSpPr>
          <p:spPr>
            <a:xfrm>
              <a:off x="3078000" y="48942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13" name="组合 24623"/>
          <p:cNvGrpSpPr/>
          <p:nvPr/>
        </p:nvGrpSpPr>
        <p:grpSpPr>
          <a:xfrm>
            <a:off x="5508720" y="4475160"/>
            <a:ext cx="504720" cy="802440"/>
            <a:chOff x="5508720" y="4475160"/>
            <a:chExt cx="504720" cy="802440"/>
          </a:xfrm>
        </p:grpSpPr>
        <p:sp>
          <p:nvSpPr>
            <p:cNvPr id="1914" name="文本框 24624"/>
            <p:cNvSpPr/>
            <p:nvPr/>
          </p:nvSpPr>
          <p:spPr>
            <a:xfrm>
              <a:off x="5508720" y="44751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5" name="文本框 24625"/>
            <p:cNvSpPr/>
            <p:nvPr/>
          </p:nvSpPr>
          <p:spPr>
            <a:xfrm>
              <a:off x="5508720" y="48178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6" name="直接连接符 24626"/>
            <p:cNvSpPr/>
            <p:nvPr/>
          </p:nvSpPr>
          <p:spPr>
            <a:xfrm>
              <a:off x="5527440" y="48942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17" name="组合 24627"/>
          <p:cNvGrpSpPr/>
          <p:nvPr/>
        </p:nvGrpSpPr>
        <p:grpSpPr>
          <a:xfrm>
            <a:off x="4067280" y="4508640"/>
            <a:ext cx="504720" cy="802440"/>
            <a:chOff x="4067280" y="4508640"/>
            <a:chExt cx="504720" cy="802440"/>
          </a:xfrm>
        </p:grpSpPr>
        <p:sp>
          <p:nvSpPr>
            <p:cNvPr id="1918" name="文本框 24628"/>
            <p:cNvSpPr/>
            <p:nvPr/>
          </p:nvSpPr>
          <p:spPr>
            <a:xfrm>
              <a:off x="4067280" y="4508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19" name="文本框 24629"/>
            <p:cNvSpPr/>
            <p:nvPr/>
          </p:nvSpPr>
          <p:spPr>
            <a:xfrm>
              <a:off x="4067280" y="48513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20" name="直接连接符 24630"/>
            <p:cNvSpPr/>
            <p:nvPr/>
          </p:nvSpPr>
          <p:spPr>
            <a:xfrm>
              <a:off x="4086000" y="49276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21" name="组合 24631"/>
          <p:cNvGrpSpPr/>
          <p:nvPr/>
        </p:nvGrpSpPr>
        <p:grpSpPr>
          <a:xfrm>
            <a:off x="2268360" y="2852640"/>
            <a:ext cx="1819440" cy="811800"/>
            <a:chOff x="2268360" y="2852640"/>
            <a:chExt cx="1819440" cy="811800"/>
          </a:xfrm>
        </p:grpSpPr>
        <p:grpSp>
          <p:nvGrpSpPr>
            <p:cNvPr id="1922" name="组合 24632"/>
            <p:cNvGrpSpPr/>
            <p:nvPr/>
          </p:nvGrpSpPr>
          <p:grpSpPr>
            <a:xfrm>
              <a:off x="2268360" y="2862000"/>
              <a:ext cx="505080" cy="802440"/>
              <a:chOff x="2268360" y="2862000"/>
              <a:chExt cx="505080" cy="802440"/>
            </a:xfrm>
          </p:grpSpPr>
          <p:sp>
            <p:nvSpPr>
              <p:cNvPr id="1923" name="文本框 24633"/>
              <p:cNvSpPr/>
              <p:nvPr/>
            </p:nvSpPr>
            <p:spPr>
              <a:xfrm>
                <a:off x="2268360" y="28620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4" name="文本框 24634"/>
              <p:cNvSpPr/>
              <p:nvPr/>
            </p:nvSpPr>
            <p:spPr>
              <a:xfrm>
                <a:off x="2268360" y="3204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25" name="直接连接符 24635"/>
              <p:cNvSpPr/>
              <p:nvPr/>
            </p:nvSpPr>
            <p:spPr>
              <a:xfrm>
                <a:off x="2287440" y="328104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26" name="矩形 24636"/>
            <p:cNvSpPr/>
            <p:nvPr/>
          </p:nvSpPr>
          <p:spPr>
            <a:xfrm>
              <a:off x="2566800" y="3013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27" name="矩形 24637"/>
            <p:cNvSpPr/>
            <p:nvPr/>
          </p:nvSpPr>
          <p:spPr>
            <a:xfrm>
              <a:off x="3182760" y="3003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28" name="组合 24638"/>
            <p:cNvGrpSpPr/>
            <p:nvPr/>
          </p:nvGrpSpPr>
          <p:grpSpPr>
            <a:xfrm>
              <a:off x="2935080" y="2852640"/>
              <a:ext cx="505080" cy="802440"/>
              <a:chOff x="2935080" y="2852640"/>
              <a:chExt cx="505080" cy="802440"/>
            </a:xfrm>
          </p:grpSpPr>
          <p:sp>
            <p:nvSpPr>
              <p:cNvPr id="1929" name="文本框 24639"/>
              <p:cNvSpPr/>
              <p:nvPr/>
            </p:nvSpPr>
            <p:spPr>
              <a:xfrm>
                <a:off x="2935080" y="28526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0" name="文本框 24640"/>
              <p:cNvSpPr/>
              <p:nvPr/>
            </p:nvSpPr>
            <p:spPr>
              <a:xfrm>
                <a:off x="2935080" y="319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1" name="直接连接符 24641"/>
              <p:cNvSpPr/>
              <p:nvPr/>
            </p:nvSpPr>
            <p:spPr>
              <a:xfrm>
                <a:off x="2954160" y="327168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32" name="组合 24642"/>
            <p:cNvGrpSpPr/>
            <p:nvPr/>
          </p:nvGrpSpPr>
          <p:grpSpPr>
            <a:xfrm>
              <a:off x="3583080" y="2852640"/>
              <a:ext cx="504720" cy="802440"/>
              <a:chOff x="3583080" y="2852640"/>
              <a:chExt cx="504720" cy="802440"/>
            </a:xfrm>
          </p:grpSpPr>
          <p:sp>
            <p:nvSpPr>
              <p:cNvPr id="1933" name="文本框 24643"/>
              <p:cNvSpPr/>
              <p:nvPr/>
            </p:nvSpPr>
            <p:spPr>
              <a:xfrm>
                <a:off x="3583080" y="2852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4" name="文本框 24644"/>
              <p:cNvSpPr/>
              <p:nvPr/>
            </p:nvSpPr>
            <p:spPr>
              <a:xfrm>
                <a:off x="3583080" y="3195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35" name="直接连接符 24645"/>
              <p:cNvSpPr/>
              <p:nvPr/>
            </p:nvSpPr>
            <p:spPr>
              <a:xfrm>
                <a:off x="3601800" y="327168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36" name="矩形 9"/>
          <p:cNvSpPr/>
          <p:nvPr/>
        </p:nvSpPr>
        <p:spPr>
          <a:xfrm>
            <a:off x="3595680" y="2852640"/>
            <a:ext cx="39996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37" name="组合 24647"/>
          <p:cNvGrpSpPr/>
          <p:nvPr/>
        </p:nvGrpSpPr>
        <p:grpSpPr>
          <a:xfrm>
            <a:off x="6588000" y="4508640"/>
            <a:ext cx="505080" cy="802440"/>
            <a:chOff x="6588000" y="4508640"/>
            <a:chExt cx="505080" cy="802440"/>
          </a:xfrm>
        </p:grpSpPr>
        <p:sp>
          <p:nvSpPr>
            <p:cNvPr id="1938" name="文本框 24648"/>
            <p:cNvSpPr/>
            <p:nvPr/>
          </p:nvSpPr>
          <p:spPr>
            <a:xfrm>
              <a:off x="6588000" y="4508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39" name="文本框 24649"/>
            <p:cNvSpPr/>
            <p:nvPr/>
          </p:nvSpPr>
          <p:spPr>
            <a:xfrm>
              <a:off x="6588000" y="4851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0" name="直接连接符 24650"/>
            <p:cNvSpPr/>
            <p:nvPr/>
          </p:nvSpPr>
          <p:spPr>
            <a:xfrm>
              <a:off x="6607080" y="492768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41" name="组合 24651"/>
          <p:cNvGrpSpPr/>
          <p:nvPr/>
        </p:nvGrpSpPr>
        <p:grpSpPr>
          <a:xfrm>
            <a:off x="6877080" y="4508640"/>
            <a:ext cx="504720" cy="802440"/>
            <a:chOff x="6877080" y="4508640"/>
            <a:chExt cx="504720" cy="802440"/>
          </a:xfrm>
        </p:grpSpPr>
        <p:sp>
          <p:nvSpPr>
            <p:cNvPr id="1942" name="文本框 24652"/>
            <p:cNvSpPr/>
            <p:nvPr/>
          </p:nvSpPr>
          <p:spPr>
            <a:xfrm>
              <a:off x="6877080" y="4508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3" name="文本框 24653"/>
            <p:cNvSpPr/>
            <p:nvPr/>
          </p:nvSpPr>
          <p:spPr>
            <a:xfrm>
              <a:off x="6877080" y="485136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44" name="直接连接符 24654"/>
            <p:cNvSpPr/>
            <p:nvPr/>
          </p:nvSpPr>
          <p:spPr>
            <a:xfrm>
              <a:off x="6895800" y="492768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45" name="组合 24655"/>
          <p:cNvGrpSpPr/>
          <p:nvPr/>
        </p:nvGrpSpPr>
        <p:grpSpPr>
          <a:xfrm>
            <a:off x="4246560" y="2852640"/>
            <a:ext cx="1819440" cy="821520"/>
            <a:chOff x="4246560" y="2852640"/>
            <a:chExt cx="1819440" cy="821520"/>
          </a:xfrm>
        </p:grpSpPr>
        <p:grpSp>
          <p:nvGrpSpPr>
            <p:cNvPr id="1946" name="组合 24656"/>
            <p:cNvGrpSpPr/>
            <p:nvPr/>
          </p:nvGrpSpPr>
          <p:grpSpPr>
            <a:xfrm>
              <a:off x="4246560" y="2862000"/>
              <a:ext cx="505080" cy="802440"/>
              <a:chOff x="4246560" y="2862000"/>
              <a:chExt cx="505080" cy="802440"/>
            </a:xfrm>
          </p:grpSpPr>
          <p:sp>
            <p:nvSpPr>
              <p:cNvPr id="1947" name="文本框 24657"/>
              <p:cNvSpPr/>
              <p:nvPr/>
            </p:nvSpPr>
            <p:spPr>
              <a:xfrm>
                <a:off x="4246560" y="28620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7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48" name="文本框 24658"/>
              <p:cNvSpPr/>
              <p:nvPr/>
            </p:nvSpPr>
            <p:spPr>
              <a:xfrm>
                <a:off x="4246560" y="32047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49" name="直接连接符 24659"/>
              <p:cNvSpPr/>
              <p:nvPr/>
            </p:nvSpPr>
            <p:spPr>
              <a:xfrm>
                <a:off x="4265640" y="328104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50" name="矩形 24660"/>
            <p:cNvSpPr/>
            <p:nvPr/>
          </p:nvSpPr>
          <p:spPr>
            <a:xfrm>
              <a:off x="4545000" y="3013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51" name="矩形 24661"/>
            <p:cNvSpPr/>
            <p:nvPr/>
          </p:nvSpPr>
          <p:spPr>
            <a:xfrm>
              <a:off x="5189760" y="3003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52" name="组合 24662"/>
            <p:cNvGrpSpPr/>
            <p:nvPr/>
          </p:nvGrpSpPr>
          <p:grpSpPr>
            <a:xfrm>
              <a:off x="4818240" y="2858760"/>
              <a:ext cx="504720" cy="815400"/>
              <a:chOff x="4818240" y="2858760"/>
              <a:chExt cx="504720" cy="815400"/>
            </a:xfrm>
          </p:grpSpPr>
          <p:sp>
            <p:nvSpPr>
              <p:cNvPr id="1953" name="文本框 24663"/>
              <p:cNvSpPr/>
              <p:nvPr/>
            </p:nvSpPr>
            <p:spPr>
              <a:xfrm>
                <a:off x="4818240" y="3214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54" name="文本框 24664"/>
              <p:cNvSpPr/>
              <p:nvPr/>
            </p:nvSpPr>
            <p:spPr>
              <a:xfrm>
                <a:off x="4907160" y="2858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55" name="直接连接符 24665"/>
              <p:cNvSpPr/>
              <p:nvPr/>
            </p:nvSpPr>
            <p:spPr>
              <a:xfrm>
                <a:off x="4884840" y="32778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56" name="组合 24666"/>
            <p:cNvGrpSpPr/>
            <p:nvPr/>
          </p:nvGrpSpPr>
          <p:grpSpPr>
            <a:xfrm>
              <a:off x="5561280" y="2852640"/>
              <a:ext cx="504720" cy="815040"/>
              <a:chOff x="5561280" y="2852640"/>
              <a:chExt cx="504720" cy="815040"/>
            </a:xfrm>
          </p:grpSpPr>
          <p:sp>
            <p:nvSpPr>
              <p:cNvPr id="1957" name="文本框 24667"/>
              <p:cNvSpPr/>
              <p:nvPr/>
            </p:nvSpPr>
            <p:spPr>
              <a:xfrm>
                <a:off x="5561280" y="3207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58" name="文本框 24668"/>
              <p:cNvSpPr/>
              <p:nvPr/>
            </p:nvSpPr>
            <p:spPr>
              <a:xfrm>
                <a:off x="5568840" y="285264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59" name="直接连接符 24669"/>
              <p:cNvSpPr/>
              <p:nvPr/>
            </p:nvSpPr>
            <p:spPr>
              <a:xfrm>
                <a:off x="5627880" y="32716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60" name="矩形 11"/>
          <p:cNvSpPr/>
          <p:nvPr/>
        </p:nvSpPr>
        <p:spPr>
          <a:xfrm>
            <a:off x="5614920" y="2852640"/>
            <a:ext cx="5414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61" name="组合 24671"/>
          <p:cNvGrpSpPr/>
          <p:nvPr/>
        </p:nvGrpSpPr>
        <p:grpSpPr>
          <a:xfrm>
            <a:off x="7956720" y="4508640"/>
            <a:ext cx="504720" cy="815040"/>
            <a:chOff x="7956720" y="4508640"/>
            <a:chExt cx="504720" cy="815040"/>
          </a:xfrm>
        </p:grpSpPr>
        <p:sp>
          <p:nvSpPr>
            <p:cNvPr id="1962" name="文本框 24672"/>
            <p:cNvSpPr/>
            <p:nvPr/>
          </p:nvSpPr>
          <p:spPr>
            <a:xfrm>
              <a:off x="7956720" y="486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3" name="文本框 24673"/>
            <p:cNvSpPr/>
            <p:nvPr/>
          </p:nvSpPr>
          <p:spPr>
            <a:xfrm>
              <a:off x="8045640" y="450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4" name="直接连接符 24674"/>
            <p:cNvSpPr/>
            <p:nvPr/>
          </p:nvSpPr>
          <p:spPr>
            <a:xfrm>
              <a:off x="8023320" y="4927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65" name="组合 24675"/>
          <p:cNvGrpSpPr/>
          <p:nvPr/>
        </p:nvGrpSpPr>
        <p:grpSpPr>
          <a:xfrm>
            <a:off x="8244000" y="4508640"/>
            <a:ext cx="504720" cy="815040"/>
            <a:chOff x="8244000" y="4508640"/>
            <a:chExt cx="504720" cy="815040"/>
          </a:xfrm>
        </p:grpSpPr>
        <p:sp>
          <p:nvSpPr>
            <p:cNvPr id="1966" name="文本框 24676"/>
            <p:cNvSpPr/>
            <p:nvPr/>
          </p:nvSpPr>
          <p:spPr>
            <a:xfrm>
              <a:off x="8244000" y="486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7" name="文本框 24677"/>
            <p:cNvSpPr/>
            <p:nvPr/>
          </p:nvSpPr>
          <p:spPr>
            <a:xfrm>
              <a:off x="8332920" y="4508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68" name="直接连接符 24678"/>
            <p:cNvSpPr/>
            <p:nvPr/>
          </p:nvSpPr>
          <p:spPr>
            <a:xfrm>
              <a:off x="8310600" y="4927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69" name="组合 24679"/>
          <p:cNvGrpSpPr/>
          <p:nvPr/>
        </p:nvGrpSpPr>
        <p:grpSpPr>
          <a:xfrm>
            <a:off x="7236000" y="4508640"/>
            <a:ext cx="504720" cy="815040"/>
            <a:chOff x="7236000" y="4508640"/>
            <a:chExt cx="504720" cy="815040"/>
          </a:xfrm>
        </p:grpSpPr>
        <p:sp>
          <p:nvSpPr>
            <p:cNvPr id="1970" name="文本框 24680"/>
            <p:cNvSpPr/>
            <p:nvPr/>
          </p:nvSpPr>
          <p:spPr>
            <a:xfrm>
              <a:off x="7236000" y="486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6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71" name="文本框 24681"/>
            <p:cNvSpPr/>
            <p:nvPr/>
          </p:nvSpPr>
          <p:spPr>
            <a:xfrm>
              <a:off x="7243560" y="450864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5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72" name="直接连接符 24682"/>
            <p:cNvSpPr/>
            <p:nvPr/>
          </p:nvSpPr>
          <p:spPr>
            <a:xfrm>
              <a:off x="7302600" y="49276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73" name="组合 24683"/>
          <p:cNvGrpSpPr/>
          <p:nvPr/>
        </p:nvGrpSpPr>
        <p:grpSpPr>
          <a:xfrm>
            <a:off x="6262560" y="2852640"/>
            <a:ext cx="1981080" cy="815040"/>
            <a:chOff x="6262560" y="2852640"/>
            <a:chExt cx="1981080" cy="815040"/>
          </a:xfrm>
        </p:grpSpPr>
        <p:grpSp>
          <p:nvGrpSpPr>
            <p:cNvPr id="1974" name="组合 24684"/>
            <p:cNvGrpSpPr/>
            <p:nvPr/>
          </p:nvGrpSpPr>
          <p:grpSpPr>
            <a:xfrm>
              <a:off x="6976800" y="2852640"/>
              <a:ext cx="504720" cy="815040"/>
              <a:chOff x="6976800" y="2852640"/>
              <a:chExt cx="504720" cy="815040"/>
            </a:xfrm>
          </p:grpSpPr>
          <p:sp>
            <p:nvSpPr>
              <p:cNvPr id="1975" name="文本框 24685"/>
              <p:cNvSpPr/>
              <p:nvPr/>
            </p:nvSpPr>
            <p:spPr>
              <a:xfrm>
                <a:off x="6976800" y="3207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76" name="文本框 24686"/>
              <p:cNvSpPr/>
              <p:nvPr/>
            </p:nvSpPr>
            <p:spPr>
              <a:xfrm>
                <a:off x="7065720" y="2852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77" name="直接连接符 24687"/>
              <p:cNvSpPr/>
              <p:nvPr/>
            </p:nvSpPr>
            <p:spPr>
              <a:xfrm>
                <a:off x="7043400" y="3271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978" name="组合 24688"/>
            <p:cNvGrpSpPr/>
            <p:nvPr/>
          </p:nvGrpSpPr>
          <p:grpSpPr>
            <a:xfrm>
              <a:off x="6262560" y="2852640"/>
              <a:ext cx="504720" cy="815040"/>
              <a:chOff x="6262560" y="2852640"/>
              <a:chExt cx="504720" cy="815040"/>
            </a:xfrm>
          </p:grpSpPr>
          <p:sp>
            <p:nvSpPr>
              <p:cNvPr id="1979" name="文本框 24689"/>
              <p:cNvSpPr/>
              <p:nvPr/>
            </p:nvSpPr>
            <p:spPr>
              <a:xfrm>
                <a:off x="6262560" y="3207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80" name="文本框 24690"/>
              <p:cNvSpPr/>
              <p:nvPr/>
            </p:nvSpPr>
            <p:spPr>
              <a:xfrm>
                <a:off x="6270120" y="285264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81" name="直接连接符 24691"/>
              <p:cNvSpPr/>
              <p:nvPr/>
            </p:nvSpPr>
            <p:spPr>
              <a:xfrm>
                <a:off x="6329160" y="32716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1982" name="矩形 24692"/>
            <p:cNvSpPr/>
            <p:nvPr/>
          </p:nvSpPr>
          <p:spPr>
            <a:xfrm>
              <a:off x="6649920" y="30038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83" name="矩形 24693"/>
            <p:cNvSpPr/>
            <p:nvPr/>
          </p:nvSpPr>
          <p:spPr>
            <a:xfrm>
              <a:off x="7367400" y="3003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984" name="组合 24694"/>
            <p:cNvGrpSpPr/>
            <p:nvPr/>
          </p:nvGrpSpPr>
          <p:grpSpPr>
            <a:xfrm>
              <a:off x="7738920" y="2852640"/>
              <a:ext cx="504720" cy="815040"/>
              <a:chOff x="7738920" y="2852640"/>
              <a:chExt cx="504720" cy="815040"/>
            </a:xfrm>
          </p:grpSpPr>
          <p:sp>
            <p:nvSpPr>
              <p:cNvPr id="1985" name="文本框 24695"/>
              <p:cNvSpPr/>
              <p:nvPr/>
            </p:nvSpPr>
            <p:spPr>
              <a:xfrm>
                <a:off x="7738920" y="3207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86" name="文本框 24696"/>
              <p:cNvSpPr/>
              <p:nvPr/>
            </p:nvSpPr>
            <p:spPr>
              <a:xfrm>
                <a:off x="7746480" y="285264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987" name="直接连接符 24697"/>
              <p:cNvSpPr/>
              <p:nvPr/>
            </p:nvSpPr>
            <p:spPr>
              <a:xfrm>
                <a:off x="7805520" y="327168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988" name="矩形 13"/>
          <p:cNvSpPr/>
          <p:nvPr/>
        </p:nvSpPr>
        <p:spPr>
          <a:xfrm>
            <a:off x="7773840" y="2852640"/>
            <a:ext cx="9748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989" name="组合 24699"/>
          <p:cNvGrpSpPr/>
          <p:nvPr/>
        </p:nvGrpSpPr>
        <p:grpSpPr>
          <a:xfrm>
            <a:off x="7740720" y="4521240"/>
            <a:ext cx="504720" cy="815040"/>
            <a:chOff x="7740720" y="4521240"/>
            <a:chExt cx="504720" cy="815040"/>
          </a:xfrm>
        </p:grpSpPr>
        <p:sp>
          <p:nvSpPr>
            <p:cNvPr id="1990" name="文本框 24700"/>
            <p:cNvSpPr/>
            <p:nvPr/>
          </p:nvSpPr>
          <p:spPr>
            <a:xfrm>
              <a:off x="7740720" y="4876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2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1" name="文本框 24701"/>
            <p:cNvSpPr/>
            <p:nvPr/>
          </p:nvSpPr>
          <p:spPr>
            <a:xfrm>
              <a:off x="7748280" y="452124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1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2" name="直接连接符 24702"/>
            <p:cNvSpPr/>
            <p:nvPr/>
          </p:nvSpPr>
          <p:spPr>
            <a:xfrm>
              <a:off x="7807320" y="49402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93" name="组合 24703"/>
          <p:cNvGrpSpPr/>
          <p:nvPr/>
        </p:nvGrpSpPr>
        <p:grpSpPr>
          <a:xfrm>
            <a:off x="8317080" y="4508640"/>
            <a:ext cx="504720" cy="815040"/>
            <a:chOff x="8317080" y="4508640"/>
            <a:chExt cx="504720" cy="815040"/>
          </a:xfrm>
        </p:grpSpPr>
        <p:sp>
          <p:nvSpPr>
            <p:cNvPr id="1994" name="文本框 24704"/>
            <p:cNvSpPr/>
            <p:nvPr/>
          </p:nvSpPr>
          <p:spPr>
            <a:xfrm>
              <a:off x="8317080" y="4863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4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5" name="文本框 24705"/>
            <p:cNvSpPr/>
            <p:nvPr/>
          </p:nvSpPr>
          <p:spPr>
            <a:xfrm>
              <a:off x="8324640" y="450864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63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6" name="直接连接符 24706"/>
            <p:cNvSpPr/>
            <p:nvPr/>
          </p:nvSpPr>
          <p:spPr>
            <a:xfrm>
              <a:off x="8383680" y="492768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997" name="组合 24707"/>
          <p:cNvGrpSpPr/>
          <p:nvPr/>
        </p:nvGrpSpPr>
        <p:grpSpPr>
          <a:xfrm>
            <a:off x="8101080" y="4508640"/>
            <a:ext cx="685800" cy="815040"/>
            <a:chOff x="8101080" y="4508640"/>
            <a:chExt cx="685800" cy="815040"/>
          </a:xfrm>
        </p:grpSpPr>
        <p:sp>
          <p:nvSpPr>
            <p:cNvPr id="1998" name="文本框 24708"/>
            <p:cNvSpPr/>
            <p:nvPr/>
          </p:nvSpPr>
          <p:spPr>
            <a:xfrm>
              <a:off x="8101080" y="4863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8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999" name="文本框 24709"/>
            <p:cNvSpPr/>
            <p:nvPr/>
          </p:nvSpPr>
          <p:spPr>
            <a:xfrm>
              <a:off x="8101080" y="4508640"/>
              <a:ext cx="6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27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2000" name="直接连接符 24710"/>
            <p:cNvSpPr/>
            <p:nvPr/>
          </p:nvSpPr>
          <p:spPr>
            <a:xfrm>
              <a:off x="8177400" y="492732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2001" name="组合 24711"/>
          <p:cNvGrpSpPr/>
          <p:nvPr/>
        </p:nvGrpSpPr>
        <p:grpSpPr>
          <a:xfrm>
            <a:off x="3059280" y="1484280"/>
            <a:ext cx="3996720" cy="815400"/>
            <a:chOff x="3059280" y="1484280"/>
            <a:chExt cx="3996720" cy="815400"/>
          </a:xfrm>
        </p:grpSpPr>
        <p:grpSp>
          <p:nvGrpSpPr>
            <p:cNvPr id="2002" name="组合 24712"/>
            <p:cNvGrpSpPr/>
            <p:nvPr/>
          </p:nvGrpSpPr>
          <p:grpSpPr>
            <a:xfrm>
              <a:off x="3059280" y="1493640"/>
              <a:ext cx="504720" cy="802440"/>
              <a:chOff x="3059280" y="1493640"/>
              <a:chExt cx="504720" cy="802440"/>
            </a:xfrm>
          </p:grpSpPr>
          <p:sp>
            <p:nvSpPr>
              <p:cNvPr id="2003" name="文本框 24713"/>
              <p:cNvSpPr/>
              <p:nvPr/>
            </p:nvSpPr>
            <p:spPr>
              <a:xfrm>
                <a:off x="3059280" y="1493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04" name="文本框 24714"/>
              <p:cNvSpPr/>
              <p:nvPr/>
            </p:nvSpPr>
            <p:spPr>
              <a:xfrm>
                <a:off x="3059280" y="183636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05" name="直接连接符 24715"/>
              <p:cNvSpPr/>
              <p:nvPr/>
            </p:nvSpPr>
            <p:spPr>
              <a:xfrm>
                <a:off x="3078000" y="191268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06" name="矩形 24716"/>
            <p:cNvSpPr/>
            <p:nvPr/>
          </p:nvSpPr>
          <p:spPr>
            <a:xfrm>
              <a:off x="3338280" y="164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07" name="组合 24717"/>
            <p:cNvGrpSpPr/>
            <p:nvPr/>
          </p:nvGrpSpPr>
          <p:grpSpPr>
            <a:xfrm>
              <a:off x="3678120" y="1493640"/>
              <a:ext cx="504360" cy="802440"/>
              <a:chOff x="3678120" y="1493640"/>
              <a:chExt cx="504360" cy="802440"/>
            </a:xfrm>
          </p:grpSpPr>
          <p:sp>
            <p:nvSpPr>
              <p:cNvPr id="2008" name="文本框 24718"/>
              <p:cNvSpPr/>
              <p:nvPr/>
            </p:nvSpPr>
            <p:spPr>
              <a:xfrm>
                <a:off x="3678120" y="14936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09" name="文本框 24719"/>
              <p:cNvSpPr/>
              <p:nvPr/>
            </p:nvSpPr>
            <p:spPr>
              <a:xfrm>
                <a:off x="3678120" y="183636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10" name="直接连接符 24720"/>
              <p:cNvSpPr/>
              <p:nvPr/>
            </p:nvSpPr>
            <p:spPr>
              <a:xfrm>
                <a:off x="3696840" y="1912680"/>
                <a:ext cx="30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11" name="矩形 24721"/>
            <p:cNvSpPr/>
            <p:nvPr/>
          </p:nvSpPr>
          <p:spPr>
            <a:xfrm>
              <a:off x="3976200" y="164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12" name="组合 24722"/>
            <p:cNvGrpSpPr/>
            <p:nvPr/>
          </p:nvGrpSpPr>
          <p:grpSpPr>
            <a:xfrm>
              <a:off x="4297320" y="1493640"/>
              <a:ext cx="504360" cy="802440"/>
              <a:chOff x="4297320" y="1493640"/>
              <a:chExt cx="504360" cy="802440"/>
            </a:xfrm>
          </p:grpSpPr>
          <p:sp>
            <p:nvSpPr>
              <p:cNvPr id="2013" name="文本框 24723"/>
              <p:cNvSpPr/>
              <p:nvPr/>
            </p:nvSpPr>
            <p:spPr>
              <a:xfrm>
                <a:off x="4297320" y="149364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14" name="文本框 24724"/>
              <p:cNvSpPr/>
              <p:nvPr/>
            </p:nvSpPr>
            <p:spPr>
              <a:xfrm>
                <a:off x="4297320" y="183636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15" name="直接连接符 24725"/>
              <p:cNvSpPr/>
              <p:nvPr/>
            </p:nvSpPr>
            <p:spPr>
              <a:xfrm>
                <a:off x="4316040" y="1912680"/>
                <a:ext cx="304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16" name="矩形 24726"/>
            <p:cNvSpPr/>
            <p:nvPr/>
          </p:nvSpPr>
          <p:spPr>
            <a:xfrm>
              <a:off x="4595400" y="164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17" name="组合 24727"/>
            <p:cNvGrpSpPr/>
            <p:nvPr/>
          </p:nvGrpSpPr>
          <p:grpSpPr>
            <a:xfrm>
              <a:off x="4840200" y="1484280"/>
              <a:ext cx="504360" cy="815400"/>
              <a:chOff x="4840200" y="1484280"/>
              <a:chExt cx="504360" cy="815400"/>
            </a:xfrm>
          </p:grpSpPr>
          <p:sp>
            <p:nvSpPr>
              <p:cNvPr id="2018" name="文本框 24728"/>
              <p:cNvSpPr/>
              <p:nvPr/>
            </p:nvSpPr>
            <p:spPr>
              <a:xfrm>
                <a:off x="4840200" y="18399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19" name="文本框 24729"/>
              <p:cNvSpPr/>
              <p:nvPr/>
            </p:nvSpPr>
            <p:spPr>
              <a:xfrm>
                <a:off x="4928760" y="14842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20" name="直接连接符 24730"/>
              <p:cNvSpPr/>
              <p:nvPr/>
            </p:nvSpPr>
            <p:spPr>
              <a:xfrm>
                <a:off x="4906440" y="19033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21" name="矩形 24731"/>
            <p:cNvSpPr/>
            <p:nvPr/>
          </p:nvSpPr>
          <p:spPr>
            <a:xfrm>
              <a:off x="5233680" y="164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22" name="组合 24732"/>
            <p:cNvGrpSpPr/>
            <p:nvPr/>
          </p:nvGrpSpPr>
          <p:grpSpPr>
            <a:xfrm>
              <a:off x="5478480" y="1484280"/>
              <a:ext cx="504360" cy="815400"/>
              <a:chOff x="5478480" y="1484280"/>
              <a:chExt cx="504360" cy="815400"/>
            </a:xfrm>
          </p:grpSpPr>
          <p:sp>
            <p:nvSpPr>
              <p:cNvPr id="2023" name="文本框 24733"/>
              <p:cNvSpPr/>
              <p:nvPr/>
            </p:nvSpPr>
            <p:spPr>
              <a:xfrm>
                <a:off x="5478480" y="183996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24" name="文本框 24734"/>
              <p:cNvSpPr/>
              <p:nvPr/>
            </p:nvSpPr>
            <p:spPr>
              <a:xfrm>
                <a:off x="5567040" y="14842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25" name="直接连接符 24735"/>
              <p:cNvSpPr/>
              <p:nvPr/>
            </p:nvSpPr>
            <p:spPr>
              <a:xfrm>
                <a:off x="5544720" y="190332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26" name="矩形 24736"/>
            <p:cNvSpPr/>
            <p:nvPr/>
          </p:nvSpPr>
          <p:spPr>
            <a:xfrm>
              <a:off x="5891040" y="1645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2027" name="组合 24737"/>
            <p:cNvGrpSpPr/>
            <p:nvPr/>
          </p:nvGrpSpPr>
          <p:grpSpPr>
            <a:xfrm>
              <a:off x="6135480" y="1484280"/>
              <a:ext cx="504720" cy="815400"/>
              <a:chOff x="6135480" y="1484280"/>
              <a:chExt cx="504720" cy="815400"/>
            </a:xfrm>
          </p:grpSpPr>
          <p:sp>
            <p:nvSpPr>
              <p:cNvPr id="2028" name="文本框 24738"/>
              <p:cNvSpPr/>
              <p:nvPr/>
            </p:nvSpPr>
            <p:spPr>
              <a:xfrm>
                <a:off x="6135480" y="1839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4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29" name="文本框 24739"/>
              <p:cNvSpPr/>
              <p:nvPr/>
            </p:nvSpPr>
            <p:spPr>
              <a:xfrm>
                <a:off x="6224400" y="1484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2030" name="直接连接符 24740"/>
              <p:cNvSpPr/>
              <p:nvPr/>
            </p:nvSpPr>
            <p:spPr>
              <a:xfrm>
                <a:off x="6202080" y="1903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sp>
          <p:nvSpPr>
            <p:cNvPr id="2031" name="矩形 24741"/>
            <p:cNvSpPr/>
            <p:nvPr/>
          </p:nvSpPr>
          <p:spPr>
            <a:xfrm>
              <a:off x="6570360" y="163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＋ 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2032" name="TextBox 54"/>
          <p:cNvSpPr/>
          <p:nvPr/>
        </p:nvSpPr>
        <p:spPr>
          <a:xfrm>
            <a:off x="6877080" y="1535040"/>
            <a:ext cx="158256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楷体_GB2312"/>
              </a:rPr>
              <a:t>……</a:t>
            </a: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。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3" name="TextBox 54"/>
          <p:cNvSpPr/>
          <p:nvPr/>
        </p:nvSpPr>
        <p:spPr>
          <a:xfrm>
            <a:off x="7380360" y="1557360"/>
            <a:ext cx="650880" cy="64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=</a:t>
            </a:r>
            <a:r>
              <a:rPr b="0" i="1" lang="en-US" sz="3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1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4" name="矩形 24744"/>
          <p:cNvSpPr/>
          <p:nvPr/>
        </p:nvSpPr>
        <p:spPr>
          <a:xfrm>
            <a:off x="8372880" y="2852640"/>
            <a:ext cx="473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宋体"/>
                <a:ea typeface="楷体_GB2312"/>
              </a:rPr>
              <a:t>…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5" name="矩形 24745"/>
          <p:cNvSpPr/>
          <p:nvPr/>
        </p:nvSpPr>
        <p:spPr>
          <a:xfrm>
            <a:off x="8736120" y="46530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楷体_GB2312"/>
              </a:rPr>
              <a:t>…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36" name="AutoShape 27"/>
          <p:cNvSpPr/>
          <p:nvPr/>
        </p:nvSpPr>
        <p:spPr>
          <a:xfrm>
            <a:off x="1763640" y="1773360"/>
            <a:ext cx="1079640" cy="431640"/>
          </a:xfrm>
          <a:prstGeom prst="wedgeRoundRectCallout">
            <a:avLst>
              <a:gd name="adj1" fmla="val -71763"/>
              <a:gd name="adj2" fmla="val 5772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37" name="Picture 20" descr="男天使副本"/>
          <p:cNvPicPr/>
          <p:nvPr/>
        </p:nvPicPr>
        <p:blipFill>
          <a:blip r:embed="rId19"/>
          <a:stretch/>
        </p:blipFill>
        <p:spPr>
          <a:xfrm>
            <a:off x="395280" y="141300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2038" name="AutoShape 27"/>
          <p:cNvSpPr/>
          <p:nvPr/>
        </p:nvSpPr>
        <p:spPr>
          <a:xfrm>
            <a:off x="1763640" y="1773360"/>
            <a:ext cx="1224000" cy="431640"/>
          </a:xfrm>
          <a:prstGeom prst="wedgeRoundRectCallout">
            <a:avLst>
              <a:gd name="adj1" fmla="val -69194"/>
              <a:gd name="adj2" fmla="val 5772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39" name="Picture 20" descr="男天使副本"/>
          <p:cNvPicPr/>
          <p:nvPr/>
        </p:nvPicPr>
        <p:blipFill>
          <a:blip r:embed="rId20"/>
          <a:stretch/>
        </p:blipFill>
        <p:spPr>
          <a:xfrm>
            <a:off x="401760" y="1413000"/>
            <a:ext cx="1258920" cy="1168200"/>
          </a:xfrm>
          <a:prstGeom prst="rect">
            <a:avLst/>
          </a:prstGeom>
          <a:ln w="0">
            <a:noFill/>
          </a:ln>
        </p:spPr>
      </p:pic>
      <p:sp>
        <p:nvSpPr>
          <p:cNvPr id="204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探究新知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1" name="矩形 24751"/>
          <p:cNvSpPr/>
          <p:nvPr/>
        </p:nvSpPr>
        <p:spPr>
          <a:xfrm>
            <a:off x="414000" y="3711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2" name="矩形 24752"/>
          <p:cNvSpPr/>
          <p:nvPr/>
        </p:nvSpPr>
        <p:spPr>
          <a:xfrm>
            <a:off x="630000" y="392760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3" name="矩形 24753"/>
          <p:cNvSpPr/>
          <p:nvPr/>
        </p:nvSpPr>
        <p:spPr>
          <a:xfrm>
            <a:off x="846000" y="4143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"/>
                            </p:stCondLst>
                            <p:childTnLst>
                              <p:par>
                                <p:cTn id="229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1"/>
                            </p:stCondLst>
                            <p:childTnLst>
                              <p:par>
                                <p:cTn id="24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2"/>
                            </p:stCondLst>
                            <p:childTnLst>
                              <p:par>
                                <p:cTn id="24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3"/>
                            </p:stCondLst>
                            <p:childTnLst>
                              <p:par>
                                <p:cTn id="2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003"/>
                            </p:stCondLst>
                            <p:childTnLst>
                              <p:par>
                                <p:cTn id="255" dur="indefinite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"/>
                            </p:stCondLst>
                            <p:childTnLst>
                              <p:par>
                                <p:cTn id="268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"/>
                            </p:stCondLst>
                            <p:childTnLst>
                              <p:par>
                                <p:cTn id="278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501"/>
                            </p:stCondLst>
                            <p:childTnLst>
                              <p:par>
                                <p:cTn id="28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2"/>
                            </p:stCondLst>
                            <p:childTnLst>
                              <p:par>
                                <p:cTn id="28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3"/>
                            </p:stCondLst>
                            <p:childTnLst>
                              <p:par>
                                <p:cTn id="28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4"/>
                            </p:stCondLst>
                            <p:childTnLst>
                              <p:par>
                                <p:cTn id="2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5"/>
                            </p:stCondLst>
                            <p:childTnLst>
                              <p:par>
                                <p:cTn id="293" dur="indefinite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"/>
                            </p:stCondLst>
                            <p:childTnLst>
                              <p:par>
                                <p:cTn id="306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"/>
                            </p:stCondLst>
                            <p:childTnLst>
                              <p:par>
                                <p:cTn id="316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501"/>
                            </p:stCondLst>
                            <p:childTnLst>
                              <p:par>
                                <p:cTn id="31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2"/>
                            </p:stCondLst>
                            <p:childTnLst>
                              <p:par>
                                <p:cTn id="32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3"/>
                            </p:stCondLst>
                            <p:childTnLst>
                              <p:par>
                                <p:cTn id="32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4"/>
                            </p:stCondLst>
                            <p:childTnLst>
                              <p:par>
                                <p:cTn id="3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5"/>
                            </p:stCondLst>
                            <p:childTnLst>
                              <p:par>
                                <p:cTn id="33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"/>
                            </p:stCondLst>
                            <p:childTnLst>
                              <p:par>
                                <p:cTn id="3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"/>
                            </p:stCondLst>
                            <p:childTnLst>
                              <p:par>
                                <p:cTn id="3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"/>
                            </p:stCondLst>
                            <p:childTnLst>
                              <p:par>
                                <p:cTn id="355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6" dur="1000" fill="hold"/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1"/>
                            </p:stCondLst>
                            <p:childTnLst>
                              <p:par>
                                <p:cTn id="35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502"/>
                            </p:stCondLst>
                            <p:childTnLst>
                              <p:par>
                                <p:cTn id="36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503"/>
                            </p:stCondLst>
                            <p:childTnLst>
                              <p:par>
                                <p:cTn id="36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4"/>
                            </p:stCondLst>
                            <p:childTnLst>
                              <p:par>
                                <p:cTn id="3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505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"/>
                            </p:stCondLst>
                            <p:childTnLst>
                              <p:par>
                                <p:cTn id="388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9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01"/>
                            </p:stCondLst>
                            <p:childTnLst>
                              <p:par>
                                <p:cTn id="3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"/>
                            </p:stCondLst>
                            <p:childTnLst>
                              <p:par>
                                <p:cTn id="407" dur="indefinite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8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1"/>
                            </p:stCondLst>
                            <p:childTnLst>
                              <p:par>
                                <p:cTn id="4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4" name="ShockwaveFlash1" descr=""/>
          <p:cNvPicPr/>
          <p:nvPr/>
        </p:nvPicPr>
        <p:blipFill>
          <a:blip r:embed="rId1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0">
            <a:noFill/>
          </a:ln>
        </p:spPr>
      </p:pic>
      <p:pic>
        <p:nvPicPr>
          <p:cNvPr id="2045" name="图片 25602" descr=""/>
          <p:cNvPicPr/>
          <p:nvPr/>
        </p:nvPicPr>
        <p:blipFill>
          <a:blip r:embed="rId2"/>
          <a:stretch/>
        </p:blipFill>
        <p:spPr>
          <a:xfrm>
            <a:off x="352440" y="285840"/>
            <a:ext cx="8381880" cy="627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TextBox 1"/>
          <p:cNvSpPr/>
          <p:nvPr/>
        </p:nvSpPr>
        <p:spPr>
          <a:xfrm>
            <a:off x="2405160" y="5554800"/>
            <a:ext cx="526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狗的速度是人的速度的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倍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00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×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（米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答：小狗从出发开始，一共跑了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400</a:t>
            </a:r>
            <a:r>
              <a:rPr b="0" i="1" lang="zh-CN" sz="20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米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47" name="矩形 26626"/>
          <p:cNvSpPr/>
          <p:nvPr/>
        </p:nvSpPr>
        <p:spPr>
          <a:xfrm>
            <a:off x="612720" y="1484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条马路长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00 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小亮和他的小狗分别以均匀的速度同时从马路的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起点出发。当小亮走到这条马路一半的时候，小狗已经到达马路的终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点。然后小狗返回与小亮相向而行，遇到小亮以后再跑向终点，到达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终点以后再与小亮相向而行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……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直到小亮到达终点。小狗从出发开始，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共跑了多少米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2048" name="图片 26627" descr="未标题-1"/>
          <p:cNvPicPr/>
          <p:nvPr/>
        </p:nvPicPr>
        <p:blipFill>
          <a:blip r:embed="rId1"/>
          <a:stretch/>
        </p:blipFill>
        <p:spPr>
          <a:xfrm>
            <a:off x="826920" y="3362400"/>
            <a:ext cx="7561440" cy="2386080"/>
          </a:xfrm>
          <a:prstGeom prst="rect">
            <a:avLst/>
          </a:prstGeom>
          <a:ln w="0">
            <a:noFill/>
          </a:ln>
        </p:spPr>
      </p:pic>
      <p:sp>
        <p:nvSpPr>
          <p:cNvPr id="2049" name="文本框 26628"/>
          <p:cNvSpPr/>
          <p:nvPr/>
        </p:nvSpPr>
        <p:spPr>
          <a:xfrm>
            <a:off x="930240" y="528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起点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0" name="文本框 26629"/>
          <p:cNvSpPr/>
          <p:nvPr/>
        </p:nvSpPr>
        <p:spPr>
          <a:xfrm>
            <a:off x="7699320" y="5307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终点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51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运用知识</a:t>
            </a:r>
            <a:endParaRPr b="0" i="1" lang="en-US" sz="4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42:18Z</dcterms:modified>
  <cp:revision>3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